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111-5B06-41F9-83C1-DFBB06CF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7B0-D5AA-4FC2-8614-E6DA3B36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6E1-93B8-47CA-BF1E-DE3028A2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365-2F82-4CE5-B56E-C23F5C28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E6C2-B0CD-4FF4-B09C-6AAC03CA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2641-FBD6-4214-A472-F2F38272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4232-7C0A-4B48-9208-F5261684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83EE-78B1-420F-A1A5-AE82FFC8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6CA-5FA8-4BD9-8877-540E62AC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C5F1-7CEC-4AE3-AB01-125531FB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E84F-E477-4AAD-B30C-AC874BAC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17A-B906-4AF3-AEB6-2CD128D8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A1BD-23C2-47B0-BE69-17750228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C509-2903-48FC-B70A-7053730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582C-6269-4B64-8B32-B285AED2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C3E4-0BA0-4022-A72C-BC02B71E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9FCB-3C0D-4C40-9529-CA6DD2B2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580-581A-4ED0-BEAE-4B6834EF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F1A-E371-43F1-9AC1-C1980B1C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6AC-201E-4CBD-858E-4CC2466F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2AF-D853-4297-839F-77DA23B1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86A-6405-4212-B254-D957A59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120-50AE-40BC-8E34-D4E664E7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0E3-3335-4A7D-838B-DD5F2AF6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BB79-A2DA-4E10-B4C8-17B2A6358C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F949-4E24-4661-A897-E723C0FBF9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Unit 12: Integers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and Dividing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m – up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 – 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 –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4 –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 – (-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200" y="214200"/>
            <a:ext cx="1233720" cy="571680"/>
          </a:xfrm>
          <a:custGeom>
            <a:avLst/>
            <a:gdLst/>
            <a:ahLst/>
            <a:rect l="l" t="t" r="r" b="b"/>
            <a:pathLst>
              <a:path w="3425" h="1589">
                <a:moveTo>
                  <a:pt x="446" y="1017"/>
                </a:moveTo>
                <a:cubicBezTo>
                  <a:pt x="531" y="1123"/>
                  <a:pt x="620" y="1279"/>
                  <a:pt x="695" y="1414"/>
                </a:cubicBezTo>
                <a:cubicBezTo>
                  <a:pt x="830" y="1656"/>
                  <a:pt x="946" y="1898"/>
                  <a:pt x="1091" y="2133"/>
                </a:cubicBezTo>
                <a:cubicBezTo>
                  <a:pt x="1111" y="2174"/>
                  <a:pt x="1109" y="2190"/>
                  <a:pt x="1141" y="2183"/>
                </a:cubicBezTo>
              </a:path>
              <a:path w="3425" h="1589">
                <a:moveTo>
                  <a:pt x="1191" y="868"/>
                </a:moveTo>
                <a:cubicBezTo>
                  <a:pt x="1147" y="1216"/>
                  <a:pt x="1075" y="1526"/>
                  <a:pt x="967" y="1860"/>
                </a:cubicBezTo>
                <a:cubicBezTo>
                  <a:pt x="979" y="1629"/>
                  <a:pt x="1005" y="1526"/>
                  <a:pt x="1166" y="1364"/>
                </a:cubicBezTo>
                <a:cubicBezTo>
                  <a:pt x="1380" y="1465"/>
                  <a:pt x="1432" y="1599"/>
                  <a:pt x="1538" y="1811"/>
                </a:cubicBezTo>
                <a:cubicBezTo>
                  <a:pt x="1598" y="1930"/>
                  <a:pt x="1615" y="1987"/>
                  <a:pt x="1712" y="2059"/>
                </a:cubicBezTo>
              </a:path>
              <a:path w="3425" h="1589">
                <a:moveTo>
                  <a:pt x="2282" y="943"/>
                </a:moveTo>
                <a:cubicBezTo>
                  <a:pt x="2404" y="1091"/>
                  <a:pt x="2148" y="877"/>
                  <a:pt x="2133" y="868"/>
                </a:cubicBezTo>
                <a:cubicBezTo>
                  <a:pt x="1925" y="736"/>
                  <a:pt x="1751" y="786"/>
                  <a:pt x="1736" y="1067"/>
                </a:cubicBezTo>
                <a:cubicBezTo>
                  <a:pt x="1723" y="1313"/>
                  <a:pt x="1753" y="1917"/>
                  <a:pt x="2108" y="1935"/>
                </a:cubicBezTo>
                <a:cubicBezTo>
                  <a:pt x="2406" y="1950"/>
                  <a:pt x="2542" y="1570"/>
                  <a:pt x="2629" y="1364"/>
                </a:cubicBezTo>
              </a:path>
              <a:path w="3425" h="1589">
                <a:moveTo>
                  <a:pt x="3522" y="868"/>
                </a:moveTo>
                <a:cubicBezTo>
                  <a:pt x="3447" y="761"/>
                  <a:pt x="3337" y="630"/>
                  <a:pt x="3200" y="595"/>
                </a:cubicBezTo>
                <a:cubicBezTo>
                  <a:pt x="2956" y="534"/>
                  <a:pt x="2954" y="830"/>
                  <a:pt x="2977" y="992"/>
                </a:cubicBezTo>
                <a:cubicBezTo>
                  <a:pt x="3021" y="1311"/>
                  <a:pt x="3165" y="1654"/>
                  <a:pt x="3547" y="1538"/>
                </a:cubicBezTo>
                <a:cubicBezTo>
                  <a:pt x="3735" y="1481"/>
                  <a:pt x="3788" y="1338"/>
                  <a:pt x="3870" y="11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1960" y="1455840"/>
            <a:ext cx="322200" cy="285480"/>
          </a:xfrm>
          <a:custGeom>
            <a:avLst/>
            <a:gdLst/>
            <a:ahLst/>
            <a:rect l="l" t="t" r="r" b="b"/>
            <a:pathLst>
              <a:path w="893" h="795">
                <a:moveTo>
                  <a:pt x="8111" y="4043"/>
                </a:moveTo>
                <a:cubicBezTo>
                  <a:pt x="8111" y="4218"/>
                  <a:pt x="8072" y="4389"/>
                  <a:pt x="8062" y="4564"/>
                </a:cubicBezTo>
                <a:cubicBezTo>
                  <a:pt x="8057" y="4663"/>
                  <a:pt x="8062" y="4713"/>
                  <a:pt x="8062" y="4812"/>
                </a:cubicBezTo>
              </a:path>
              <a:path w="893" h="795">
                <a:moveTo>
                  <a:pt x="8632" y="4118"/>
                </a:moveTo>
                <a:cubicBezTo>
                  <a:pt x="8592" y="4138"/>
                  <a:pt x="8455" y="4171"/>
                  <a:pt x="8434" y="4192"/>
                </a:cubicBezTo>
                <a:cubicBezTo>
                  <a:pt x="8380" y="4247"/>
                  <a:pt x="8423" y="4354"/>
                  <a:pt x="8434" y="4415"/>
                </a:cubicBezTo>
                <a:cubicBezTo>
                  <a:pt x="8434" y="4423"/>
                  <a:pt x="8434" y="4432"/>
                  <a:pt x="8434" y="4440"/>
                </a:cubicBezTo>
                <a:cubicBezTo>
                  <a:pt x="8513" y="4408"/>
                  <a:pt x="8557" y="4294"/>
                  <a:pt x="8657" y="4291"/>
                </a:cubicBezTo>
                <a:cubicBezTo>
                  <a:pt x="8833" y="4286"/>
                  <a:pt x="8838" y="4467"/>
                  <a:pt x="8781" y="4589"/>
                </a:cubicBezTo>
                <a:cubicBezTo>
                  <a:pt x="8679" y="4807"/>
                  <a:pt x="8550" y="4751"/>
                  <a:pt x="8458" y="4614"/>
                </a:cubicBezTo>
              </a:path>
              <a:path w="893" h="795">
                <a:moveTo>
                  <a:pt x="8830" y="4167"/>
                </a:moveTo>
                <a:cubicBezTo>
                  <a:pt x="8880" y="4384"/>
                  <a:pt x="8913" y="4598"/>
                  <a:pt x="8954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02040" y="965160"/>
            <a:ext cx="2251080" cy="1231920"/>
          </a:xfrm>
          <a:custGeom>
            <a:avLst/>
            <a:gdLst/>
            <a:ahLst/>
            <a:rect l="l" t="t" r="r" b="b"/>
            <a:pathLst>
              <a:path w="6251" h="3424">
                <a:moveTo>
                  <a:pt x="14139" y="3274"/>
                </a:moveTo>
                <a:cubicBezTo>
                  <a:pt x="14265" y="3274"/>
                  <a:pt x="14487" y="3225"/>
                  <a:pt x="14585" y="3299"/>
                </a:cubicBezTo>
              </a:path>
              <a:path w="6251" h="3424">
                <a:moveTo>
                  <a:pt x="10864" y="3870"/>
                </a:moveTo>
                <a:cubicBezTo>
                  <a:pt x="10864" y="4079"/>
                  <a:pt x="10850" y="4282"/>
                  <a:pt x="10840" y="4490"/>
                </a:cubicBezTo>
                <a:cubicBezTo>
                  <a:pt x="10840" y="4597"/>
                  <a:pt x="10840" y="4622"/>
                  <a:pt x="10840" y="4688"/>
                </a:cubicBezTo>
              </a:path>
              <a:path w="6251" h="3424">
                <a:moveTo>
                  <a:pt x="11361" y="3969"/>
                </a:moveTo>
                <a:cubicBezTo>
                  <a:pt x="11353" y="4121"/>
                  <a:pt x="11319" y="4244"/>
                  <a:pt x="11286" y="4390"/>
                </a:cubicBezTo>
                <a:cubicBezTo>
                  <a:pt x="11286" y="4415"/>
                  <a:pt x="11286" y="4423"/>
                  <a:pt x="11286" y="4390"/>
                </a:cubicBezTo>
              </a:path>
              <a:path w="6251" h="3424">
                <a:moveTo>
                  <a:pt x="11559" y="4018"/>
                </a:moveTo>
                <a:cubicBezTo>
                  <a:pt x="11644" y="4035"/>
                  <a:pt x="11844" y="4081"/>
                  <a:pt x="11807" y="4217"/>
                </a:cubicBezTo>
                <a:cubicBezTo>
                  <a:pt x="11772" y="4347"/>
                  <a:pt x="11636" y="4401"/>
                  <a:pt x="11534" y="4390"/>
                </a:cubicBezTo>
                <a:cubicBezTo>
                  <a:pt x="11599" y="4287"/>
                  <a:pt x="11637" y="4268"/>
                  <a:pt x="11757" y="4316"/>
                </a:cubicBezTo>
                <a:cubicBezTo>
                  <a:pt x="11818" y="4341"/>
                  <a:pt x="11816" y="4341"/>
                  <a:pt x="11881" y="4341"/>
                </a:cubicBezTo>
              </a:path>
              <a:path w="6251" h="3424">
                <a:moveTo>
                  <a:pt x="12154" y="3671"/>
                </a:moveTo>
                <a:cubicBezTo>
                  <a:pt x="12163" y="3895"/>
                  <a:pt x="12191" y="4118"/>
                  <a:pt x="12204" y="4341"/>
                </a:cubicBezTo>
                <a:cubicBezTo>
                  <a:pt x="12209" y="4423"/>
                  <a:pt x="12204" y="4507"/>
                  <a:pt x="12204" y="4589"/>
                </a:cubicBezTo>
              </a:path>
              <a:path w="6251" h="3424">
                <a:moveTo>
                  <a:pt x="15379" y="2803"/>
                </a:moveTo>
                <a:cubicBezTo>
                  <a:pt x="15363" y="2932"/>
                  <a:pt x="15338" y="3065"/>
                  <a:pt x="15329" y="3200"/>
                </a:cubicBezTo>
                <a:cubicBezTo>
                  <a:pt x="15324" y="3275"/>
                  <a:pt x="15342" y="3335"/>
                  <a:pt x="15304" y="3373"/>
                </a:cubicBezTo>
              </a:path>
              <a:path w="6251" h="3424">
                <a:moveTo>
                  <a:pt x="15701" y="2679"/>
                </a:moveTo>
                <a:cubicBezTo>
                  <a:pt x="15796" y="2703"/>
                  <a:pt x="15899" y="2700"/>
                  <a:pt x="15999" y="2753"/>
                </a:cubicBezTo>
                <a:cubicBezTo>
                  <a:pt x="16179" y="2848"/>
                  <a:pt x="16189" y="3056"/>
                  <a:pt x="16049" y="3200"/>
                </a:cubicBezTo>
                <a:cubicBezTo>
                  <a:pt x="15935" y="3317"/>
                  <a:pt x="15824" y="3314"/>
                  <a:pt x="15677" y="3324"/>
                </a:cubicBezTo>
                <a:cubicBezTo>
                  <a:pt x="15708" y="3182"/>
                  <a:pt x="15758" y="3167"/>
                  <a:pt x="15900" y="3200"/>
                </a:cubicBezTo>
                <a:cubicBezTo>
                  <a:pt x="15981" y="3219"/>
                  <a:pt x="16019" y="3268"/>
                  <a:pt x="16073" y="3324"/>
                </a:cubicBezTo>
              </a:path>
              <a:path w="6251" h="3424">
                <a:moveTo>
                  <a:pt x="15875" y="3522"/>
                </a:moveTo>
                <a:cubicBezTo>
                  <a:pt x="15773" y="3522"/>
                  <a:pt x="15680" y="3544"/>
                  <a:pt x="15577" y="3547"/>
                </a:cubicBezTo>
                <a:cubicBezTo>
                  <a:pt x="15454" y="3551"/>
                  <a:pt x="15478" y="3577"/>
                  <a:pt x="15478" y="3696"/>
                </a:cubicBezTo>
                <a:cubicBezTo>
                  <a:pt x="15478" y="3746"/>
                  <a:pt x="15478" y="3762"/>
                  <a:pt x="15478" y="3795"/>
                </a:cubicBezTo>
                <a:cubicBezTo>
                  <a:pt x="15637" y="3750"/>
                  <a:pt x="15723" y="3677"/>
                  <a:pt x="15900" y="3721"/>
                </a:cubicBezTo>
                <a:cubicBezTo>
                  <a:pt x="15933" y="3737"/>
                  <a:pt x="15966" y="3754"/>
                  <a:pt x="15999" y="3770"/>
                </a:cubicBezTo>
                <a:cubicBezTo>
                  <a:pt x="16011" y="3956"/>
                  <a:pt x="15941" y="4062"/>
                  <a:pt x="15726" y="4093"/>
                </a:cubicBezTo>
                <a:cubicBezTo>
                  <a:pt x="15534" y="4093"/>
                  <a:pt x="15473" y="4095"/>
                  <a:pt x="15354" y="4043"/>
                </a:cubicBezTo>
              </a:path>
              <a:path w="6251" h="3424">
                <a:moveTo>
                  <a:pt x="14908" y="4440"/>
                </a:moveTo>
                <a:cubicBezTo>
                  <a:pt x="15179" y="4440"/>
                  <a:pt x="15433" y="4383"/>
                  <a:pt x="15701" y="4341"/>
                </a:cubicBezTo>
                <a:cubicBezTo>
                  <a:pt x="16031" y="4289"/>
                  <a:pt x="16363" y="4266"/>
                  <a:pt x="16694" y="4217"/>
                </a:cubicBezTo>
              </a:path>
              <a:path w="6251" h="3424">
                <a:moveTo>
                  <a:pt x="15577" y="4837"/>
                </a:moveTo>
                <a:cubicBezTo>
                  <a:pt x="15775" y="4824"/>
                  <a:pt x="15974" y="4797"/>
                  <a:pt x="16173" y="4787"/>
                </a:cubicBezTo>
                <a:cubicBezTo>
                  <a:pt x="16254" y="4783"/>
                  <a:pt x="16339" y="4787"/>
                  <a:pt x="16421" y="4787"/>
                </a:cubicBezTo>
                <a:cubicBezTo>
                  <a:pt x="16358" y="4877"/>
                  <a:pt x="16255" y="4979"/>
                  <a:pt x="16197" y="5085"/>
                </a:cubicBezTo>
                <a:cubicBezTo>
                  <a:pt x="16109" y="5248"/>
                  <a:pt x="16070" y="5444"/>
                  <a:pt x="15999" y="5606"/>
                </a:cubicBezTo>
                <a:cubicBezTo>
                  <a:pt x="15991" y="5614"/>
                  <a:pt x="15982" y="5623"/>
                  <a:pt x="15974" y="5631"/>
                </a:cubicBezTo>
              </a:path>
              <a:path w="6251" h="3424">
                <a:moveTo>
                  <a:pt x="14660" y="3646"/>
                </a:moveTo>
                <a:cubicBezTo>
                  <a:pt x="14591" y="3661"/>
                  <a:pt x="14499" y="3685"/>
                  <a:pt x="14436" y="3721"/>
                </a:cubicBezTo>
                <a:cubicBezTo>
                  <a:pt x="14286" y="3807"/>
                  <a:pt x="14107" y="3941"/>
                  <a:pt x="13990" y="4068"/>
                </a:cubicBezTo>
                <a:cubicBezTo>
                  <a:pt x="13866" y="4203"/>
                  <a:pt x="13762" y="4335"/>
                  <a:pt x="13667" y="4490"/>
                </a:cubicBezTo>
                <a:cubicBezTo>
                  <a:pt x="13612" y="4580"/>
                  <a:pt x="13614" y="4653"/>
                  <a:pt x="13568" y="4738"/>
                </a:cubicBezTo>
                <a:cubicBezTo>
                  <a:pt x="13537" y="4795"/>
                  <a:pt x="13491" y="4831"/>
                  <a:pt x="13444" y="4862"/>
                </a:cubicBezTo>
                <a:cubicBezTo>
                  <a:pt x="13372" y="4910"/>
                  <a:pt x="13323" y="4892"/>
                  <a:pt x="13246" y="4911"/>
                </a:cubicBezTo>
                <a:cubicBezTo>
                  <a:pt x="13224" y="4916"/>
                  <a:pt x="13172" y="4927"/>
                  <a:pt x="13146" y="4936"/>
                </a:cubicBezTo>
                <a:cubicBezTo>
                  <a:pt x="13123" y="4944"/>
                  <a:pt x="13065" y="5006"/>
                  <a:pt x="13022" y="5035"/>
                </a:cubicBezTo>
                <a:cubicBezTo>
                  <a:pt x="12988" y="5058"/>
                  <a:pt x="12959" y="5070"/>
                  <a:pt x="12923" y="5085"/>
                </a:cubicBezTo>
              </a:path>
              <a:path w="6251" h="3424">
                <a:moveTo>
                  <a:pt x="13072" y="4440"/>
                </a:moveTo>
                <a:cubicBezTo>
                  <a:pt x="13044" y="4592"/>
                  <a:pt x="13005" y="4764"/>
                  <a:pt x="12948" y="4911"/>
                </a:cubicBezTo>
                <a:cubicBezTo>
                  <a:pt x="12919" y="4986"/>
                  <a:pt x="12882" y="5061"/>
                  <a:pt x="12849" y="5135"/>
                </a:cubicBezTo>
                <a:cubicBezTo>
                  <a:pt x="12924" y="5135"/>
                  <a:pt x="12943" y="5194"/>
                  <a:pt x="13022" y="5209"/>
                </a:cubicBezTo>
                <a:cubicBezTo>
                  <a:pt x="13072" y="5219"/>
                  <a:pt x="13139" y="5204"/>
                  <a:pt x="13146" y="5259"/>
                </a:cubicBezTo>
                <a:cubicBezTo>
                  <a:pt x="13146" y="5267"/>
                  <a:pt x="13146" y="5275"/>
                  <a:pt x="13146" y="5283"/>
                </a:cubicBezTo>
              </a:path>
              <a:path w="6251" h="3424">
                <a:moveTo>
                  <a:pt x="14932" y="5308"/>
                </a:moveTo>
                <a:cubicBezTo>
                  <a:pt x="15023" y="5308"/>
                  <a:pt x="15117" y="5348"/>
                  <a:pt x="15205" y="5333"/>
                </a:cubicBezTo>
                <a:cubicBezTo>
                  <a:pt x="15246" y="5313"/>
                  <a:pt x="15262" y="5294"/>
                  <a:pt x="15255" y="5333"/>
                </a:cubicBezTo>
              </a:path>
              <a:path w="6251" h="3424">
                <a:moveTo>
                  <a:pt x="14883" y="6028"/>
                </a:moveTo>
                <a:cubicBezTo>
                  <a:pt x="15017" y="6036"/>
                  <a:pt x="15146" y="6069"/>
                  <a:pt x="15280" y="6077"/>
                </a:cubicBezTo>
                <a:cubicBezTo>
                  <a:pt x="15613" y="6097"/>
                  <a:pt x="15966" y="6091"/>
                  <a:pt x="16297" y="6052"/>
                </a:cubicBezTo>
                <a:cubicBezTo>
                  <a:pt x="16484" y="6030"/>
                  <a:pt x="16670" y="5977"/>
                  <a:pt x="16818" y="5854"/>
                </a:cubicBezTo>
                <a:cubicBezTo>
                  <a:pt x="16929" y="5761"/>
                  <a:pt x="17015" y="5615"/>
                  <a:pt x="17066" y="5482"/>
                </a:cubicBezTo>
                <a:cubicBezTo>
                  <a:pt x="17115" y="5354"/>
                  <a:pt x="17075" y="5259"/>
                  <a:pt x="17041" y="5135"/>
                </a:cubicBezTo>
                <a:cubicBezTo>
                  <a:pt x="17010" y="5020"/>
                  <a:pt x="16948" y="4882"/>
                  <a:pt x="16842" y="4812"/>
                </a:cubicBezTo>
                <a:cubicBezTo>
                  <a:pt x="16742" y="4746"/>
                  <a:pt x="16596" y="4778"/>
                  <a:pt x="16495" y="4738"/>
                </a:cubicBezTo>
                <a:cubicBezTo>
                  <a:pt x="16407" y="4703"/>
                  <a:pt x="16338" y="4687"/>
                  <a:pt x="16247" y="4663"/>
                </a:cubicBezTo>
                <a:cubicBezTo>
                  <a:pt x="16133" y="4632"/>
                  <a:pt x="16019" y="4617"/>
                  <a:pt x="15900" y="4614"/>
                </a:cubicBezTo>
                <a:cubicBezTo>
                  <a:pt x="15687" y="4608"/>
                  <a:pt x="15464" y="4599"/>
                  <a:pt x="15255" y="4638"/>
                </a:cubicBezTo>
                <a:cubicBezTo>
                  <a:pt x="15085" y="4670"/>
                  <a:pt x="14921" y="4749"/>
                  <a:pt x="14759" y="4812"/>
                </a:cubicBezTo>
                <a:cubicBezTo>
                  <a:pt x="14615" y="4868"/>
                  <a:pt x="14471" y="4951"/>
                  <a:pt x="14387" y="5085"/>
                </a:cubicBezTo>
                <a:cubicBezTo>
                  <a:pt x="14321" y="5190"/>
                  <a:pt x="14252" y="5331"/>
                  <a:pt x="14238" y="5457"/>
                </a:cubicBezTo>
                <a:cubicBezTo>
                  <a:pt x="14218" y="5634"/>
                  <a:pt x="14296" y="5721"/>
                  <a:pt x="14412" y="5829"/>
                </a:cubicBezTo>
                <a:cubicBezTo>
                  <a:pt x="14503" y="5914"/>
                  <a:pt x="14588" y="5990"/>
                  <a:pt x="14709" y="6028"/>
                </a:cubicBezTo>
                <a:cubicBezTo>
                  <a:pt x="14802" y="6057"/>
                  <a:pt x="14911" y="6073"/>
                  <a:pt x="15007" y="6077"/>
                </a:cubicBezTo>
                <a:cubicBezTo>
                  <a:pt x="15101" y="6081"/>
                  <a:pt x="15199" y="6077"/>
                  <a:pt x="15280" y="6077"/>
                </a:cubicBezTo>
                <a:cubicBezTo>
                  <a:pt x="15338" y="6077"/>
                  <a:pt x="15346" y="6077"/>
                  <a:pt x="15379" y="60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00240" y="1847880"/>
            <a:ext cx="241560" cy="3589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8930" y="5159"/>
                </a:moveTo>
                <a:cubicBezTo>
                  <a:pt x="8856" y="5159"/>
                  <a:pt x="8830" y="5159"/>
                  <a:pt x="8756" y="5159"/>
                </a:cubicBezTo>
                <a:cubicBezTo>
                  <a:pt x="8658" y="5159"/>
                  <a:pt x="8579" y="5147"/>
                  <a:pt x="8483" y="5135"/>
                </a:cubicBezTo>
                <a:cubicBezTo>
                  <a:pt x="8498" y="5231"/>
                  <a:pt x="8539" y="5308"/>
                  <a:pt x="8558" y="5407"/>
                </a:cubicBezTo>
                <a:cubicBezTo>
                  <a:pt x="8564" y="5435"/>
                  <a:pt x="8558" y="5477"/>
                  <a:pt x="8558" y="5507"/>
                </a:cubicBezTo>
                <a:cubicBezTo>
                  <a:pt x="8631" y="5466"/>
                  <a:pt x="8682" y="5423"/>
                  <a:pt x="8781" y="5432"/>
                </a:cubicBezTo>
                <a:cubicBezTo>
                  <a:pt x="8940" y="5446"/>
                  <a:pt x="9048" y="5625"/>
                  <a:pt x="9004" y="5779"/>
                </a:cubicBezTo>
                <a:cubicBezTo>
                  <a:pt x="8962" y="5926"/>
                  <a:pt x="8742" y="6138"/>
                  <a:pt x="8582" y="6127"/>
                </a:cubicBezTo>
                <a:cubicBezTo>
                  <a:pt x="8537" y="6124"/>
                  <a:pt x="8339" y="6046"/>
                  <a:pt x="8334" y="6003"/>
                </a:cubicBezTo>
                <a:cubicBezTo>
                  <a:pt x="8334" y="5995"/>
                  <a:pt x="8334" y="5986"/>
                  <a:pt x="8334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38360" y="1884240"/>
            <a:ext cx="241560" cy="295560"/>
          </a:xfrm>
          <a:custGeom>
            <a:avLst/>
            <a:gdLst/>
            <a:ahLst/>
            <a:rect l="l" t="t" r="r" b="b"/>
            <a:pathLst>
              <a:path w="671" h="819">
                <a:moveTo>
                  <a:pt x="9823" y="5308"/>
                </a:moveTo>
                <a:cubicBezTo>
                  <a:pt x="9823" y="5266"/>
                  <a:pt x="9813" y="5270"/>
                  <a:pt x="9847" y="5259"/>
                </a:cubicBezTo>
                <a:cubicBezTo>
                  <a:pt x="9847" y="5183"/>
                  <a:pt x="9872" y="5482"/>
                  <a:pt x="9872" y="5482"/>
                </a:cubicBezTo>
                <a:cubicBezTo>
                  <a:pt x="9882" y="5652"/>
                  <a:pt x="9843" y="5814"/>
                  <a:pt x="9823" y="5978"/>
                </a:cubicBezTo>
                <a:cubicBezTo>
                  <a:pt x="9823" y="6019"/>
                  <a:pt x="9823" y="6027"/>
                  <a:pt x="9823" y="6052"/>
                </a:cubicBezTo>
              </a:path>
              <a:path w="671" h="819">
                <a:moveTo>
                  <a:pt x="9550" y="5705"/>
                </a:moveTo>
                <a:cubicBezTo>
                  <a:pt x="9713" y="5705"/>
                  <a:pt x="9980" y="5670"/>
                  <a:pt x="10096" y="5730"/>
                </a:cubicBezTo>
                <a:cubicBezTo>
                  <a:pt x="10121" y="5743"/>
                  <a:pt x="10191" y="5730"/>
                  <a:pt x="10220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11760" y="1795320"/>
            <a:ext cx="571320" cy="330480"/>
          </a:xfrm>
          <a:custGeom>
            <a:avLst/>
            <a:gdLst/>
            <a:ahLst/>
            <a:rect l="l" t="t" r="r" b="b"/>
            <a:pathLst>
              <a:path w="1589" h="919">
                <a:moveTo>
                  <a:pt x="10889" y="5358"/>
                </a:moveTo>
                <a:cubicBezTo>
                  <a:pt x="10815" y="5358"/>
                  <a:pt x="11011" y="5358"/>
                  <a:pt x="11013" y="5358"/>
                </a:cubicBezTo>
                <a:cubicBezTo>
                  <a:pt x="11078" y="5358"/>
                  <a:pt x="11105" y="5345"/>
                  <a:pt x="11162" y="5333"/>
                </a:cubicBezTo>
              </a:path>
              <a:path w="1589" h="919">
                <a:moveTo>
                  <a:pt x="11509" y="5035"/>
                </a:moveTo>
                <a:cubicBezTo>
                  <a:pt x="11488" y="5168"/>
                  <a:pt x="11485" y="5294"/>
                  <a:pt x="11485" y="5432"/>
                </a:cubicBezTo>
                <a:cubicBezTo>
                  <a:pt x="11485" y="5589"/>
                  <a:pt x="11485" y="5747"/>
                  <a:pt x="11485" y="5904"/>
                </a:cubicBezTo>
                <a:cubicBezTo>
                  <a:pt x="11485" y="5824"/>
                  <a:pt x="11492" y="5798"/>
                  <a:pt x="11509" y="5705"/>
                </a:cubicBezTo>
              </a:path>
              <a:path w="1589" h="919">
                <a:moveTo>
                  <a:pt x="11708" y="5234"/>
                </a:moveTo>
                <a:cubicBezTo>
                  <a:pt x="11708" y="5181"/>
                  <a:pt x="11724" y="5128"/>
                  <a:pt x="11757" y="5085"/>
                </a:cubicBezTo>
                <a:cubicBezTo>
                  <a:pt x="11836" y="4983"/>
                  <a:pt x="11915" y="4970"/>
                  <a:pt x="12030" y="5011"/>
                </a:cubicBezTo>
                <a:cubicBezTo>
                  <a:pt x="12126" y="5045"/>
                  <a:pt x="12172" y="5117"/>
                  <a:pt x="12179" y="5209"/>
                </a:cubicBezTo>
                <a:cubicBezTo>
                  <a:pt x="12192" y="5381"/>
                  <a:pt x="12046" y="5437"/>
                  <a:pt x="11956" y="5556"/>
                </a:cubicBezTo>
                <a:cubicBezTo>
                  <a:pt x="11885" y="5650"/>
                  <a:pt x="11824" y="5757"/>
                  <a:pt x="11757" y="5854"/>
                </a:cubicBezTo>
                <a:cubicBezTo>
                  <a:pt x="11757" y="5945"/>
                  <a:pt x="11769" y="5857"/>
                  <a:pt x="11807" y="5779"/>
                </a:cubicBezTo>
                <a:cubicBezTo>
                  <a:pt x="11843" y="5704"/>
                  <a:pt x="11865" y="5606"/>
                  <a:pt x="11956" y="5606"/>
                </a:cubicBezTo>
                <a:cubicBezTo>
                  <a:pt x="12063" y="5606"/>
                  <a:pt x="12033" y="5730"/>
                  <a:pt x="12080" y="5804"/>
                </a:cubicBezTo>
                <a:cubicBezTo>
                  <a:pt x="12165" y="5939"/>
                  <a:pt x="12243" y="5846"/>
                  <a:pt x="12328" y="5779"/>
                </a:cubicBezTo>
                <a:cubicBezTo>
                  <a:pt x="12403" y="5723"/>
                  <a:pt x="12416" y="5719"/>
                  <a:pt x="12452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1320" y="2660760"/>
            <a:ext cx="2562480" cy="546120"/>
          </a:xfrm>
          <a:custGeom>
            <a:avLst/>
            <a:gdLst/>
            <a:ahLst/>
            <a:rect l="l" t="t" r="r" b="b"/>
            <a:pathLst>
              <a:path w="7120" h="1514">
                <a:moveTo>
                  <a:pt x="8830" y="8037"/>
                </a:moveTo>
                <a:cubicBezTo>
                  <a:pt x="8785" y="7977"/>
                  <a:pt x="8702" y="7886"/>
                  <a:pt x="8632" y="7838"/>
                </a:cubicBezTo>
                <a:cubicBezTo>
                  <a:pt x="8477" y="7732"/>
                  <a:pt x="8315" y="7748"/>
                  <a:pt x="8186" y="7888"/>
                </a:cubicBezTo>
                <a:cubicBezTo>
                  <a:pt x="8083" y="8000"/>
                  <a:pt x="8010" y="8303"/>
                  <a:pt x="8235" y="8334"/>
                </a:cubicBezTo>
                <a:cubicBezTo>
                  <a:pt x="8448" y="8363"/>
                  <a:pt x="8581" y="8190"/>
                  <a:pt x="8682" y="8037"/>
                </a:cubicBezTo>
                <a:cubicBezTo>
                  <a:pt x="8702" y="7996"/>
                  <a:pt x="8710" y="7990"/>
                  <a:pt x="8706" y="7962"/>
                </a:cubicBezTo>
                <a:cubicBezTo>
                  <a:pt x="8697" y="8095"/>
                  <a:pt x="8665" y="8225"/>
                  <a:pt x="8657" y="8359"/>
                </a:cubicBezTo>
                <a:cubicBezTo>
                  <a:pt x="8649" y="8504"/>
                  <a:pt x="8672" y="8638"/>
                  <a:pt x="8682" y="8781"/>
                </a:cubicBezTo>
              </a:path>
              <a:path w="7120" h="1514">
                <a:moveTo>
                  <a:pt x="9699" y="7888"/>
                </a:moveTo>
                <a:cubicBezTo>
                  <a:pt x="9662" y="8054"/>
                  <a:pt x="9652" y="8220"/>
                  <a:pt x="9624" y="8384"/>
                </a:cubicBezTo>
                <a:cubicBezTo>
                  <a:pt x="9602" y="8449"/>
                  <a:pt x="9594" y="8464"/>
                  <a:pt x="9599" y="8508"/>
                </a:cubicBezTo>
              </a:path>
              <a:path w="7120" h="1514">
                <a:moveTo>
                  <a:pt x="9252" y="8359"/>
                </a:moveTo>
                <a:cubicBezTo>
                  <a:pt x="9409" y="8345"/>
                  <a:pt x="9565" y="8298"/>
                  <a:pt x="9723" y="8285"/>
                </a:cubicBezTo>
                <a:cubicBezTo>
                  <a:pt x="9787" y="8280"/>
                  <a:pt x="9857" y="8285"/>
                  <a:pt x="9922" y="8285"/>
                </a:cubicBezTo>
              </a:path>
              <a:path w="7120" h="1514">
                <a:moveTo>
                  <a:pt x="10616" y="7913"/>
                </a:moveTo>
                <a:cubicBezTo>
                  <a:pt x="10616" y="8020"/>
                  <a:pt x="10549" y="8110"/>
                  <a:pt x="10517" y="8210"/>
                </a:cubicBezTo>
                <a:cubicBezTo>
                  <a:pt x="10451" y="8411"/>
                  <a:pt x="10630" y="8423"/>
                  <a:pt x="10790" y="8409"/>
                </a:cubicBezTo>
                <a:cubicBezTo>
                  <a:pt x="10891" y="8389"/>
                  <a:pt x="10911" y="8391"/>
                  <a:pt x="10964" y="8359"/>
                </a:cubicBezTo>
              </a:path>
              <a:path w="7120" h="1514">
                <a:moveTo>
                  <a:pt x="10939" y="7739"/>
                </a:moveTo>
                <a:cubicBezTo>
                  <a:pt x="10939" y="8047"/>
                  <a:pt x="10941" y="8351"/>
                  <a:pt x="10964" y="8657"/>
                </a:cubicBezTo>
                <a:cubicBezTo>
                  <a:pt x="10964" y="8715"/>
                  <a:pt x="10964" y="8723"/>
                  <a:pt x="10964" y="8756"/>
                </a:cubicBezTo>
              </a:path>
              <a:path w="7120" h="1514">
                <a:moveTo>
                  <a:pt x="11782" y="8136"/>
                </a:moveTo>
                <a:cubicBezTo>
                  <a:pt x="11803" y="8104"/>
                  <a:pt x="11923" y="8069"/>
                  <a:pt x="11981" y="8062"/>
                </a:cubicBezTo>
                <a:cubicBezTo>
                  <a:pt x="12060" y="8053"/>
                  <a:pt x="12149" y="8062"/>
                  <a:pt x="12229" y="8062"/>
                </a:cubicBezTo>
              </a:path>
              <a:path w="7120" h="1514">
                <a:moveTo>
                  <a:pt x="11733" y="8285"/>
                </a:moveTo>
                <a:cubicBezTo>
                  <a:pt x="11829" y="8285"/>
                  <a:pt x="11911" y="8268"/>
                  <a:pt x="12005" y="8260"/>
                </a:cubicBezTo>
              </a:path>
              <a:path w="7120" h="1514">
                <a:moveTo>
                  <a:pt x="13122" y="7714"/>
                </a:moveTo>
                <a:cubicBezTo>
                  <a:pt x="13122" y="7606"/>
                  <a:pt x="13114" y="7880"/>
                  <a:pt x="13122" y="7987"/>
                </a:cubicBezTo>
                <a:cubicBezTo>
                  <a:pt x="13135" y="8158"/>
                  <a:pt x="13140" y="8293"/>
                  <a:pt x="13122" y="8458"/>
                </a:cubicBezTo>
              </a:path>
              <a:path w="7120" h="1514">
                <a:moveTo>
                  <a:pt x="13469" y="7665"/>
                </a:moveTo>
                <a:cubicBezTo>
                  <a:pt x="13573" y="7665"/>
                  <a:pt x="13656" y="7601"/>
                  <a:pt x="13767" y="7590"/>
                </a:cubicBezTo>
                <a:cubicBezTo>
                  <a:pt x="13904" y="7577"/>
                  <a:pt x="13941" y="7578"/>
                  <a:pt x="14015" y="7665"/>
                </a:cubicBezTo>
                <a:cubicBezTo>
                  <a:pt x="13902" y="7815"/>
                  <a:pt x="13791" y="7876"/>
                  <a:pt x="13618" y="7962"/>
                </a:cubicBezTo>
                <a:cubicBezTo>
                  <a:pt x="13665" y="7900"/>
                  <a:pt x="13850" y="7857"/>
                  <a:pt x="13940" y="7888"/>
                </a:cubicBezTo>
                <a:cubicBezTo>
                  <a:pt x="14117" y="7950"/>
                  <a:pt x="14079" y="8160"/>
                  <a:pt x="13965" y="8260"/>
                </a:cubicBezTo>
                <a:cubicBezTo>
                  <a:pt x="13866" y="8346"/>
                  <a:pt x="13714" y="8334"/>
                  <a:pt x="13593" y="8334"/>
                </a:cubicBezTo>
              </a:path>
              <a:path w="7120" h="1514">
                <a:moveTo>
                  <a:pt x="12650" y="8458"/>
                </a:moveTo>
                <a:cubicBezTo>
                  <a:pt x="12760" y="8581"/>
                  <a:pt x="12838" y="8661"/>
                  <a:pt x="12998" y="8731"/>
                </a:cubicBezTo>
                <a:cubicBezTo>
                  <a:pt x="13288" y="8858"/>
                  <a:pt x="13601" y="8891"/>
                  <a:pt x="13915" y="8905"/>
                </a:cubicBezTo>
                <a:cubicBezTo>
                  <a:pt x="14215" y="8918"/>
                  <a:pt x="14581" y="8905"/>
                  <a:pt x="14858" y="8781"/>
                </a:cubicBezTo>
                <a:cubicBezTo>
                  <a:pt x="15030" y="8704"/>
                  <a:pt x="15183" y="8575"/>
                  <a:pt x="15205" y="8384"/>
                </a:cubicBezTo>
                <a:cubicBezTo>
                  <a:pt x="15226" y="8207"/>
                  <a:pt x="15111" y="8004"/>
                  <a:pt x="14982" y="7888"/>
                </a:cubicBezTo>
                <a:cubicBezTo>
                  <a:pt x="14791" y="7717"/>
                  <a:pt x="14481" y="7565"/>
                  <a:pt x="14238" y="7491"/>
                </a:cubicBezTo>
                <a:cubicBezTo>
                  <a:pt x="13980" y="7412"/>
                  <a:pt x="13689" y="7368"/>
                  <a:pt x="13419" y="7392"/>
                </a:cubicBezTo>
                <a:cubicBezTo>
                  <a:pt x="13228" y="7409"/>
                  <a:pt x="13074" y="7437"/>
                  <a:pt x="12898" y="7516"/>
                </a:cubicBezTo>
                <a:cubicBezTo>
                  <a:pt x="12765" y="7575"/>
                  <a:pt x="12693" y="7580"/>
                  <a:pt x="12626" y="7714"/>
                </a:cubicBezTo>
                <a:cubicBezTo>
                  <a:pt x="12557" y="7851"/>
                  <a:pt x="12561" y="8062"/>
                  <a:pt x="12576" y="8210"/>
                </a:cubicBezTo>
                <a:cubicBezTo>
                  <a:pt x="12598" y="8433"/>
                  <a:pt x="12682" y="8524"/>
                  <a:pt x="12898" y="8582"/>
                </a:cubicBezTo>
                <a:cubicBezTo>
                  <a:pt x="13061" y="8626"/>
                  <a:pt x="13228" y="8626"/>
                  <a:pt x="13395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16160" y="3606840"/>
            <a:ext cx="2384640" cy="814320"/>
          </a:xfrm>
          <a:custGeom>
            <a:avLst/>
            <a:gdLst/>
            <a:ahLst/>
            <a:rect l="l" t="t" r="r" b="b"/>
            <a:pathLst>
              <a:path w="6624" h="2258">
                <a:moveTo>
                  <a:pt x="8657" y="11633"/>
                </a:moveTo>
                <a:cubicBezTo>
                  <a:pt x="8790" y="11633"/>
                  <a:pt x="8900" y="11600"/>
                  <a:pt x="9029" y="11584"/>
                </a:cubicBezTo>
                <a:cubicBezTo>
                  <a:pt x="9054" y="11584"/>
                  <a:pt x="9078" y="11584"/>
                  <a:pt x="9103" y="11584"/>
                </a:cubicBezTo>
              </a:path>
              <a:path w="6624" h="2258">
                <a:moveTo>
                  <a:pt x="9203" y="11187"/>
                </a:moveTo>
                <a:cubicBezTo>
                  <a:pt x="9203" y="11117"/>
                  <a:pt x="9180" y="11400"/>
                  <a:pt x="9178" y="11410"/>
                </a:cubicBezTo>
                <a:cubicBezTo>
                  <a:pt x="9158" y="11509"/>
                  <a:pt x="9150" y="11525"/>
                  <a:pt x="9153" y="11584"/>
                </a:cubicBezTo>
                <a:cubicBezTo>
                  <a:pt x="9317" y="11575"/>
                  <a:pt x="9465" y="11525"/>
                  <a:pt x="9624" y="11509"/>
                </a:cubicBezTo>
                <a:cubicBezTo>
                  <a:pt x="9632" y="11509"/>
                  <a:pt x="9641" y="11509"/>
                  <a:pt x="9649" y="11509"/>
                </a:cubicBezTo>
              </a:path>
              <a:path w="6624" h="2258">
                <a:moveTo>
                  <a:pt x="9599" y="10988"/>
                </a:moveTo>
                <a:cubicBezTo>
                  <a:pt x="9625" y="11170"/>
                  <a:pt x="9624" y="11347"/>
                  <a:pt x="9624" y="11534"/>
                </a:cubicBezTo>
                <a:cubicBezTo>
                  <a:pt x="9624" y="11688"/>
                  <a:pt x="9649" y="11829"/>
                  <a:pt x="9649" y="11981"/>
                </a:cubicBezTo>
                <a:cubicBezTo>
                  <a:pt x="9649" y="11989"/>
                  <a:pt x="9649" y="11997"/>
                  <a:pt x="9649" y="12005"/>
                </a:cubicBezTo>
              </a:path>
              <a:path w="6624" h="2258">
                <a:moveTo>
                  <a:pt x="10220" y="11361"/>
                </a:moveTo>
                <a:cubicBezTo>
                  <a:pt x="10255" y="11515"/>
                  <a:pt x="10269" y="11649"/>
                  <a:pt x="10269" y="11807"/>
                </a:cubicBezTo>
                <a:cubicBezTo>
                  <a:pt x="10269" y="11824"/>
                  <a:pt x="10269" y="11840"/>
                  <a:pt x="10269" y="11857"/>
                </a:cubicBezTo>
              </a:path>
              <a:path w="6624" h="2258">
                <a:moveTo>
                  <a:pt x="9947" y="11633"/>
                </a:moveTo>
                <a:cubicBezTo>
                  <a:pt x="10051" y="11633"/>
                  <a:pt x="10141" y="11630"/>
                  <a:pt x="10244" y="11609"/>
                </a:cubicBezTo>
                <a:cubicBezTo>
                  <a:pt x="10321" y="11593"/>
                  <a:pt x="10390" y="11559"/>
                  <a:pt x="10468" y="11559"/>
                </a:cubicBezTo>
              </a:path>
              <a:path w="6624" h="2258">
                <a:moveTo>
                  <a:pt x="10939" y="11485"/>
                </a:moveTo>
                <a:cubicBezTo>
                  <a:pt x="10992" y="11485"/>
                  <a:pt x="11036" y="11465"/>
                  <a:pt x="11088" y="11460"/>
                </a:cubicBezTo>
                <a:cubicBezTo>
                  <a:pt x="11096" y="11460"/>
                  <a:pt x="11104" y="11460"/>
                  <a:pt x="11112" y="11460"/>
                </a:cubicBezTo>
              </a:path>
              <a:path w="6624" h="2258">
                <a:moveTo>
                  <a:pt x="11385" y="11063"/>
                </a:moveTo>
                <a:cubicBezTo>
                  <a:pt x="11329" y="11078"/>
                  <a:pt x="11320" y="11092"/>
                  <a:pt x="11410" y="11038"/>
                </a:cubicBezTo>
                <a:cubicBezTo>
                  <a:pt x="11504" y="10981"/>
                  <a:pt x="11578" y="10972"/>
                  <a:pt x="11683" y="10964"/>
                </a:cubicBezTo>
                <a:cubicBezTo>
                  <a:pt x="11766" y="11142"/>
                  <a:pt x="11719" y="11301"/>
                  <a:pt x="11584" y="11460"/>
                </a:cubicBezTo>
                <a:cubicBezTo>
                  <a:pt x="11523" y="11532"/>
                  <a:pt x="11486" y="11559"/>
                  <a:pt x="11435" y="11534"/>
                </a:cubicBezTo>
                <a:cubicBezTo>
                  <a:pt x="11534" y="11468"/>
                  <a:pt x="11638" y="11444"/>
                  <a:pt x="11757" y="11485"/>
                </a:cubicBezTo>
                <a:cubicBezTo>
                  <a:pt x="11904" y="11536"/>
                  <a:pt x="11873" y="11766"/>
                  <a:pt x="11782" y="11857"/>
                </a:cubicBezTo>
                <a:cubicBezTo>
                  <a:pt x="11686" y="11953"/>
                  <a:pt x="11565" y="12005"/>
                  <a:pt x="11435" y="12005"/>
                </a:cubicBezTo>
                <a:cubicBezTo>
                  <a:pt x="11427" y="12005"/>
                  <a:pt x="11418" y="12005"/>
                  <a:pt x="11410" y="12005"/>
                </a:cubicBezTo>
              </a:path>
              <a:path w="6624" h="2258">
                <a:moveTo>
                  <a:pt x="12626" y="11361"/>
                </a:moveTo>
                <a:cubicBezTo>
                  <a:pt x="12694" y="11347"/>
                  <a:pt x="12757" y="11305"/>
                  <a:pt x="12824" y="11286"/>
                </a:cubicBezTo>
                <a:cubicBezTo>
                  <a:pt x="12832" y="11286"/>
                  <a:pt x="12841" y="11286"/>
                  <a:pt x="12849" y="11286"/>
                </a:cubicBezTo>
              </a:path>
              <a:path w="6624" h="2258">
                <a:moveTo>
                  <a:pt x="12626" y="11609"/>
                </a:moveTo>
                <a:cubicBezTo>
                  <a:pt x="12684" y="11589"/>
                  <a:pt x="12740" y="11569"/>
                  <a:pt x="12799" y="11559"/>
                </a:cubicBezTo>
              </a:path>
              <a:path w="6624" h="2258">
                <a:moveTo>
                  <a:pt x="13494" y="10864"/>
                </a:moveTo>
                <a:cubicBezTo>
                  <a:pt x="13586" y="10892"/>
                  <a:pt x="13551" y="10863"/>
                  <a:pt x="13593" y="10964"/>
                </a:cubicBezTo>
                <a:cubicBezTo>
                  <a:pt x="13593" y="10988"/>
                  <a:pt x="13593" y="10996"/>
                  <a:pt x="13593" y="10964"/>
                </a:cubicBezTo>
                <a:cubicBezTo>
                  <a:pt x="13612" y="10842"/>
                  <a:pt x="13612" y="10739"/>
                  <a:pt x="13742" y="10666"/>
                </a:cubicBezTo>
                <a:cubicBezTo>
                  <a:pt x="13840" y="10611"/>
                  <a:pt x="13952" y="10624"/>
                  <a:pt x="14039" y="10641"/>
                </a:cubicBezTo>
                <a:cubicBezTo>
                  <a:pt x="14103" y="10653"/>
                  <a:pt x="14116" y="10654"/>
                  <a:pt x="14114" y="10765"/>
                </a:cubicBezTo>
                <a:cubicBezTo>
                  <a:pt x="14108" y="11055"/>
                  <a:pt x="13941" y="11304"/>
                  <a:pt x="13891" y="11584"/>
                </a:cubicBezTo>
                <a:cubicBezTo>
                  <a:pt x="13884" y="11624"/>
                  <a:pt x="13891" y="11687"/>
                  <a:pt x="13891" y="11733"/>
                </a:cubicBezTo>
              </a:path>
              <a:path w="6624" h="2258">
                <a:moveTo>
                  <a:pt x="13320" y="11286"/>
                </a:moveTo>
                <a:cubicBezTo>
                  <a:pt x="13377" y="11254"/>
                  <a:pt x="13383" y="11245"/>
                  <a:pt x="13444" y="11237"/>
                </a:cubicBezTo>
              </a:path>
              <a:path w="6624" h="2258">
                <a:moveTo>
                  <a:pt x="13320" y="12129"/>
                </a:moveTo>
                <a:cubicBezTo>
                  <a:pt x="13485" y="12180"/>
                  <a:pt x="13610" y="12214"/>
                  <a:pt x="13791" y="12204"/>
                </a:cubicBezTo>
                <a:cubicBezTo>
                  <a:pt x="14096" y="12187"/>
                  <a:pt x="14426" y="12153"/>
                  <a:pt x="14709" y="12030"/>
                </a:cubicBezTo>
                <a:cubicBezTo>
                  <a:pt x="14950" y="11925"/>
                  <a:pt x="15113" y="11702"/>
                  <a:pt x="15205" y="11460"/>
                </a:cubicBezTo>
                <a:cubicBezTo>
                  <a:pt x="15301" y="11209"/>
                  <a:pt x="15280" y="10989"/>
                  <a:pt x="15230" y="10740"/>
                </a:cubicBezTo>
                <a:cubicBezTo>
                  <a:pt x="15182" y="10505"/>
                  <a:pt x="15145" y="10398"/>
                  <a:pt x="14957" y="10244"/>
                </a:cubicBezTo>
                <a:cubicBezTo>
                  <a:pt x="14814" y="10127"/>
                  <a:pt x="14570" y="10046"/>
                  <a:pt x="14387" y="10021"/>
                </a:cubicBezTo>
                <a:cubicBezTo>
                  <a:pt x="14177" y="9992"/>
                  <a:pt x="13936" y="10073"/>
                  <a:pt x="13742" y="10145"/>
                </a:cubicBezTo>
                <a:cubicBezTo>
                  <a:pt x="13592" y="10201"/>
                  <a:pt x="13356" y="10281"/>
                  <a:pt x="13221" y="10368"/>
                </a:cubicBezTo>
                <a:cubicBezTo>
                  <a:pt x="13106" y="10442"/>
                  <a:pt x="12974" y="10548"/>
                  <a:pt x="12874" y="10641"/>
                </a:cubicBezTo>
                <a:cubicBezTo>
                  <a:pt x="12785" y="10723"/>
                  <a:pt x="12739" y="10842"/>
                  <a:pt x="12725" y="10964"/>
                </a:cubicBezTo>
                <a:cubicBezTo>
                  <a:pt x="12708" y="11110"/>
                  <a:pt x="12744" y="11244"/>
                  <a:pt x="12774" y="11385"/>
                </a:cubicBezTo>
                <a:cubicBezTo>
                  <a:pt x="12803" y="11521"/>
                  <a:pt x="12843" y="11717"/>
                  <a:pt x="12923" y="11832"/>
                </a:cubicBezTo>
                <a:cubicBezTo>
                  <a:pt x="12998" y="11940"/>
                  <a:pt x="13102" y="12018"/>
                  <a:pt x="13196" y="12105"/>
                </a:cubicBezTo>
                <a:cubicBezTo>
                  <a:pt x="13245" y="12150"/>
                  <a:pt x="13292" y="12172"/>
                  <a:pt x="13345" y="12204"/>
                </a:cubicBezTo>
                <a:cubicBezTo>
                  <a:pt x="13414" y="12245"/>
                  <a:pt x="13429" y="12278"/>
                  <a:pt x="13519" y="12278"/>
                </a:cubicBezTo>
                <a:cubicBezTo>
                  <a:pt x="13576" y="12259"/>
                  <a:pt x="13583" y="12251"/>
                  <a:pt x="13618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51160" y="4670280"/>
            <a:ext cx="2535120" cy="1276560"/>
          </a:xfrm>
          <a:custGeom>
            <a:avLst/>
            <a:gdLst/>
            <a:ahLst/>
            <a:rect l="l" t="t" r="r" b="b"/>
            <a:pathLst>
              <a:path w="7045" h="3548">
                <a:moveTo>
                  <a:pt x="9054" y="14808"/>
                </a:moveTo>
                <a:cubicBezTo>
                  <a:pt x="8982" y="14808"/>
                  <a:pt x="9225" y="14784"/>
                  <a:pt x="9227" y="14784"/>
                </a:cubicBezTo>
                <a:cubicBezTo>
                  <a:pt x="9274" y="14780"/>
                  <a:pt x="9327" y="14784"/>
                  <a:pt x="9376" y="14784"/>
                </a:cubicBezTo>
              </a:path>
              <a:path w="7045" h="3548">
                <a:moveTo>
                  <a:pt x="9748" y="14486"/>
                </a:moveTo>
                <a:cubicBezTo>
                  <a:pt x="9748" y="14431"/>
                  <a:pt x="9746" y="14333"/>
                  <a:pt x="9773" y="14288"/>
                </a:cubicBezTo>
                <a:cubicBezTo>
                  <a:pt x="9824" y="14206"/>
                  <a:pt x="9956" y="14129"/>
                  <a:pt x="10046" y="14114"/>
                </a:cubicBezTo>
                <a:cubicBezTo>
                  <a:pt x="10123" y="14101"/>
                  <a:pt x="10246" y="14159"/>
                  <a:pt x="10269" y="14238"/>
                </a:cubicBezTo>
                <a:cubicBezTo>
                  <a:pt x="10288" y="14302"/>
                  <a:pt x="10222" y="14388"/>
                  <a:pt x="10195" y="14436"/>
                </a:cubicBezTo>
                <a:cubicBezTo>
                  <a:pt x="10164" y="14491"/>
                  <a:pt x="10099" y="14544"/>
                  <a:pt x="10046" y="14585"/>
                </a:cubicBezTo>
                <a:cubicBezTo>
                  <a:pt x="9959" y="14652"/>
                  <a:pt x="9878" y="14708"/>
                  <a:pt x="9798" y="14784"/>
                </a:cubicBezTo>
                <a:cubicBezTo>
                  <a:pt x="9713" y="14865"/>
                  <a:pt x="9680" y="15018"/>
                  <a:pt x="9649" y="15131"/>
                </a:cubicBezTo>
                <a:cubicBezTo>
                  <a:pt x="9640" y="15162"/>
                  <a:pt x="9600" y="15299"/>
                  <a:pt x="9599" y="15304"/>
                </a:cubicBezTo>
                <a:cubicBezTo>
                  <a:pt x="9624" y="15231"/>
                  <a:pt x="9616" y="15200"/>
                  <a:pt x="9649" y="15131"/>
                </a:cubicBezTo>
                <a:cubicBezTo>
                  <a:pt x="9702" y="15017"/>
                  <a:pt x="9731" y="15012"/>
                  <a:pt x="9823" y="14982"/>
                </a:cubicBezTo>
                <a:cubicBezTo>
                  <a:pt x="9865" y="15084"/>
                  <a:pt x="9896" y="15160"/>
                  <a:pt x="9971" y="15205"/>
                </a:cubicBezTo>
                <a:cubicBezTo>
                  <a:pt x="10094" y="15278"/>
                  <a:pt x="10144" y="15224"/>
                  <a:pt x="10244" y="15131"/>
                </a:cubicBezTo>
                <a:cubicBezTo>
                  <a:pt x="10269" y="15106"/>
                  <a:pt x="10277" y="15098"/>
                  <a:pt x="10294" y="15081"/>
                </a:cubicBezTo>
              </a:path>
              <a:path w="7045" h="3548">
                <a:moveTo>
                  <a:pt x="10939" y="14461"/>
                </a:moveTo>
                <a:cubicBezTo>
                  <a:pt x="10995" y="14555"/>
                  <a:pt x="10985" y="14695"/>
                  <a:pt x="10988" y="14808"/>
                </a:cubicBezTo>
                <a:cubicBezTo>
                  <a:pt x="10990" y="14874"/>
                  <a:pt x="10988" y="14941"/>
                  <a:pt x="10988" y="15007"/>
                </a:cubicBezTo>
              </a:path>
              <a:path w="7045" h="3548">
                <a:moveTo>
                  <a:pt x="10666" y="14734"/>
                </a:moveTo>
                <a:cubicBezTo>
                  <a:pt x="10775" y="14697"/>
                  <a:pt x="10895" y="14687"/>
                  <a:pt x="11013" y="14684"/>
                </a:cubicBezTo>
                <a:cubicBezTo>
                  <a:pt x="11096" y="14682"/>
                  <a:pt x="11117" y="14695"/>
                  <a:pt x="11187" y="14709"/>
                </a:cubicBezTo>
              </a:path>
              <a:path w="7045" h="3548">
                <a:moveTo>
                  <a:pt x="12278" y="14337"/>
                </a:moveTo>
                <a:cubicBezTo>
                  <a:pt x="12289" y="14305"/>
                  <a:pt x="12306" y="14222"/>
                  <a:pt x="12229" y="14163"/>
                </a:cubicBezTo>
                <a:cubicBezTo>
                  <a:pt x="12110" y="14072"/>
                  <a:pt x="11924" y="14140"/>
                  <a:pt x="11832" y="14238"/>
                </a:cubicBezTo>
                <a:cubicBezTo>
                  <a:pt x="11662" y="14418"/>
                  <a:pt x="11694" y="14538"/>
                  <a:pt x="11906" y="14635"/>
                </a:cubicBezTo>
                <a:cubicBezTo>
                  <a:pt x="12040" y="14696"/>
                  <a:pt x="12346" y="14743"/>
                  <a:pt x="12328" y="14957"/>
                </a:cubicBezTo>
                <a:cubicBezTo>
                  <a:pt x="12311" y="15160"/>
                  <a:pt x="12064" y="15162"/>
                  <a:pt x="11931" y="15156"/>
                </a:cubicBezTo>
                <a:cubicBezTo>
                  <a:pt x="11833" y="14944"/>
                  <a:pt x="11968" y="14816"/>
                  <a:pt x="12105" y="14610"/>
                </a:cubicBezTo>
                <a:cubicBezTo>
                  <a:pt x="12141" y="14556"/>
                  <a:pt x="12276" y="14373"/>
                  <a:pt x="12254" y="14362"/>
                </a:cubicBezTo>
                <a:cubicBezTo>
                  <a:pt x="12229" y="14362"/>
                  <a:pt x="12221" y="14362"/>
                  <a:pt x="12204" y="14362"/>
                </a:cubicBezTo>
              </a:path>
              <a:path w="7045" h="3548">
                <a:moveTo>
                  <a:pt x="12626" y="14660"/>
                </a:moveTo>
                <a:cubicBezTo>
                  <a:pt x="12717" y="14645"/>
                  <a:pt x="12807" y="14598"/>
                  <a:pt x="12898" y="14585"/>
                </a:cubicBezTo>
                <a:cubicBezTo>
                  <a:pt x="13026" y="14567"/>
                  <a:pt x="12969" y="14604"/>
                  <a:pt x="12923" y="14635"/>
                </a:cubicBezTo>
              </a:path>
              <a:path w="7045" h="3548">
                <a:moveTo>
                  <a:pt x="12700" y="14808"/>
                </a:moveTo>
                <a:cubicBezTo>
                  <a:pt x="12801" y="14794"/>
                  <a:pt x="12896" y="14767"/>
                  <a:pt x="12998" y="14759"/>
                </a:cubicBezTo>
              </a:path>
              <a:path w="7045" h="3548">
                <a:moveTo>
                  <a:pt x="14337" y="12998"/>
                </a:moveTo>
                <a:cubicBezTo>
                  <a:pt x="14311" y="12921"/>
                  <a:pt x="14077" y="13072"/>
                  <a:pt x="14039" y="13097"/>
                </a:cubicBezTo>
                <a:cubicBezTo>
                  <a:pt x="13917" y="13176"/>
                  <a:pt x="13878" y="13205"/>
                  <a:pt x="13891" y="13320"/>
                </a:cubicBezTo>
                <a:cubicBezTo>
                  <a:pt x="14088" y="13392"/>
                  <a:pt x="14237" y="13410"/>
                  <a:pt x="14362" y="13568"/>
                </a:cubicBezTo>
                <a:cubicBezTo>
                  <a:pt x="14315" y="13685"/>
                  <a:pt x="14202" y="13723"/>
                  <a:pt x="14064" y="13643"/>
                </a:cubicBezTo>
                <a:cubicBezTo>
                  <a:pt x="14048" y="13626"/>
                  <a:pt x="14031" y="13610"/>
                  <a:pt x="14015" y="13593"/>
                </a:cubicBezTo>
                <a:cubicBezTo>
                  <a:pt x="14078" y="13392"/>
                  <a:pt x="14163" y="13209"/>
                  <a:pt x="14337" y="13072"/>
                </a:cubicBezTo>
                <a:cubicBezTo>
                  <a:pt x="14345" y="13072"/>
                  <a:pt x="14354" y="13072"/>
                  <a:pt x="14362" y="13072"/>
                </a:cubicBezTo>
              </a:path>
              <a:path w="7045" h="3548">
                <a:moveTo>
                  <a:pt x="13444" y="13990"/>
                </a:moveTo>
                <a:cubicBezTo>
                  <a:pt x="13560" y="13927"/>
                  <a:pt x="13607" y="13922"/>
                  <a:pt x="13742" y="13915"/>
                </a:cubicBezTo>
              </a:path>
              <a:path w="7045" h="3548">
                <a:moveTo>
                  <a:pt x="14064" y="14064"/>
                </a:moveTo>
                <a:cubicBezTo>
                  <a:pt x="14086" y="13976"/>
                  <a:pt x="14228" y="13951"/>
                  <a:pt x="14312" y="13940"/>
                </a:cubicBezTo>
                <a:cubicBezTo>
                  <a:pt x="14397" y="13940"/>
                  <a:pt x="14417" y="13933"/>
                  <a:pt x="14461" y="13965"/>
                </a:cubicBezTo>
                <a:cubicBezTo>
                  <a:pt x="14371" y="14100"/>
                  <a:pt x="14219" y="14196"/>
                  <a:pt x="14089" y="14312"/>
                </a:cubicBezTo>
                <a:cubicBezTo>
                  <a:pt x="14072" y="14329"/>
                  <a:pt x="14056" y="14345"/>
                  <a:pt x="14039" y="14362"/>
                </a:cubicBezTo>
                <a:cubicBezTo>
                  <a:pt x="14166" y="14344"/>
                  <a:pt x="14315" y="14307"/>
                  <a:pt x="14436" y="14263"/>
                </a:cubicBezTo>
                <a:cubicBezTo>
                  <a:pt x="14510" y="14226"/>
                  <a:pt x="14514" y="14209"/>
                  <a:pt x="14560" y="14213"/>
                </a:cubicBezTo>
              </a:path>
              <a:path w="7045" h="3548">
                <a:moveTo>
                  <a:pt x="13519" y="14709"/>
                </a:moveTo>
                <a:cubicBezTo>
                  <a:pt x="13779" y="14632"/>
                  <a:pt x="14044" y="14552"/>
                  <a:pt x="14312" y="14511"/>
                </a:cubicBezTo>
                <a:cubicBezTo>
                  <a:pt x="14473" y="14486"/>
                  <a:pt x="14623" y="14486"/>
                  <a:pt x="14784" y="14486"/>
                </a:cubicBezTo>
              </a:path>
              <a:path w="7045" h="3548">
                <a:moveTo>
                  <a:pt x="14461" y="14759"/>
                </a:moveTo>
                <a:cubicBezTo>
                  <a:pt x="14401" y="14939"/>
                  <a:pt x="14334" y="15119"/>
                  <a:pt x="14288" y="15304"/>
                </a:cubicBezTo>
                <a:cubicBezTo>
                  <a:pt x="14261" y="15414"/>
                  <a:pt x="14185" y="15652"/>
                  <a:pt x="14288" y="15751"/>
                </a:cubicBezTo>
                <a:cubicBezTo>
                  <a:pt x="14430" y="15887"/>
                  <a:pt x="14616" y="15812"/>
                  <a:pt x="14759" y="15751"/>
                </a:cubicBezTo>
                <a:cubicBezTo>
                  <a:pt x="14862" y="15707"/>
                  <a:pt x="14883" y="15675"/>
                  <a:pt x="14932" y="15577"/>
                </a:cubicBezTo>
                <a:cubicBezTo>
                  <a:pt x="14973" y="15494"/>
                  <a:pt x="14974" y="15441"/>
                  <a:pt x="14908" y="15379"/>
                </a:cubicBezTo>
                <a:cubicBezTo>
                  <a:pt x="14857" y="15331"/>
                  <a:pt x="14736" y="15343"/>
                  <a:pt x="14684" y="15379"/>
                </a:cubicBezTo>
                <a:cubicBezTo>
                  <a:pt x="14601" y="15436"/>
                  <a:pt x="14588" y="15536"/>
                  <a:pt x="14585" y="15627"/>
                </a:cubicBezTo>
                <a:cubicBezTo>
                  <a:pt x="14582" y="15700"/>
                  <a:pt x="14599" y="15746"/>
                  <a:pt x="14635" y="15801"/>
                </a:cubicBezTo>
              </a:path>
              <a:path w="7045" h="3548">
                <a:moveTo>
                  <a:pt x="13519" y="13543"/>
                </a:moveTo>
                <a:cubicBezTo>
                  <a:pt x="13379" y="13512"/>
                  <a:pt x="13265" y="13517"/>
                  <a:pt x="13122" y="13543"/>
                </a:cubicBezTo>
                <a:cubicBezTo>
                  <a:pt x="12970" y="13570"/>
                  <a:pt x="12817" y="13605"/>
                  <a:pt x="12675" y="13667"/>
                </a:cubicBezTo>
                <a:cubicBezTo>
                  <a:pt x="12564" y="13716"/>
                  <a:pt x="12486" y="13781"/>
                  <a:pt x="12402" y="13866"/>
                </a:cubicBezTo>
                <a:cubicBezTo>
                  <a:pt x="12376" y="13892"/>
                  <a:pt x="12343" y="13935"/>
                  <a:pt x="12378" y="13940"/>
                </a:cubicBezTo>
                <a:cubicBezTo>
                  <a:pt x="12386" y="13940"/>
                  <a:pt x="12394" y="13940"/>
                  <a:pt x="12402" y="13940"/>
                </a:cubicBezTo>
              </a:path>
              <a:path w="7045" h="3548">
                <a:moveTo>
                  <a:pt x="12328" y="13593"/>
                </a:moveTo>
                <a:cubicBezTo>
                  <a:pt x="12348" y="13693"/>
                  <a:pt x="12375" y="13784"/>
                  <a:pt x="12378" y="13891"/>
                </a:cubicBezTo>
                <a:cubicBezTo>
                  <a:pt x="12380" y="13940"/>
                  <a:pt x="12378" y="13990"/>
                  <a:pt x="12378" y="14039"/>
                </a:cubicBezTo>
                <a:cubicBezTo>
                  <a:pt x="12514" y="14039"/>
                  <a:pt x="12574" y="13995"/>
                  <a:pt x="12700" y="13965"/>
                </a:cubicBezTo>
                <a:cubicBezTo>
                  <a:pt x="12731" y="13958"/>
                  <a:pt x="12788" y="13965"/>
                  <a:pt x="12824" y="13965"/>
                </a:cubicBezTo>
              </a:path>
              <a:path w="7045" h="3548">
                <a:moveTo>
                  <a:pt x="13791" y="16297"/>
                </a:moveTo>
                <a:cubicBezTo>
                  <a:pt x="14029" y="16410"/>
                  <a:pt x="14290" y="16495"/>
                  <a:pt x="14560" y="16495"/>
                </a:cubicBezTo>
                <a:cubicBezTo>
                  <a:pt x="14957" y="16495"/>
                  <a:pt x="15327" y="16403"/>
                  <a:pt x="15652" y="16173"/>
                </a:cubicBezTo>
                <a:cubicBezTo>
                  <a:pt x="15843" y="16038"/>
                  <a:pt x="15981" y="15850"/>
                  <a:pt x="16049" y="15627"/>
                </a:cubicBezTo>
                <a:cubicBezTo>
                  <a:pt x="16092" y="15485"/>
                  <a:pt x="16094" y="15326"/>
                  <a:pt x="15999" y="15205"/>
                </a:cubicBezTo>
                <a:cubicBezTo>
                  <a:pt x="15909" y="15091"/>
                  <a:pt x="15784" y="14991"/>
                  <a:pt x="15652" y="14932"/>
                </a:cubicBezTo>
                <a:cubicBezTo>
                  <a:pt x="15544" y="14884"/>
                  <a:pt x="15417" y="14867"/>
                  <a:pt x="15304" y="14833"/>
                </a:cubicBezTo>
                <a:cubicBezTo>
                  <a:pt x="15204" y="14803"/>
                  <a:pt x="15112" y="14787"/>
                  <a:pt x="15007" y="14784"/>
                </a:cubicBezTo>
                <a:cubicBezTo>
                  <a:pt x="14861" y="14779"/>
                  <a:pt x="14726" y="14793"/>
                  <a:pt x="14585" y="14808"/>
                </a:cubicBezTo>
                <a:cubicBezTo>
                  <a:pt x="14461" y="14821"/>
                  <a:pt x="14360" y="14891"/>
                  <a:pt x="14238" y="14932"/>
                </a:cubicBezTo>
                <a:cubicBezTo>
                  <a:pt x="14088" y="14982"/>
                  <a:pt x="14012" y="15033"/>
                  <a:pt x="13891" y="15131"/>
                </a:cubicBezTo>
                <a:cubicBezTo>
                  <a:pt x="13769" y="15230"/>
                  <a:pt x="13644" y="15336"/>
                  <a:pt x="13568" y="15478"/>
                </a:cubicBezTo>
                <a:cubicBezTo>
                  <a:pt x="13490" y="15623"/>
                  <a:pt x="13464" y="15837"/>
                  <a:pt x="13444" y="15999"/>
                </a:cubicBezTo>
                <a:cubicBezTo>
                  <a:pt x="13431" y="16105"/>
                  <a:pt x="13479" y="16172"/>
                  <a:pt x="13543" y="16247"/>
                </a:cubicBezTo>
                <a:cubicBezTo>
                  <a:pt x="13636" y="16356"/>
                  <a:pt x="13765" y="16366"/>
                  <a:pt x="13891" y="16421"/>
                </a:cubicBezTo>
                <a:cubicBezTo>
                  <a:pt x="14048" y="16489"/>
                  <a:pt x="14191" y="16515"/>
                  <a:pt x="14362" y="16520"/>
                </a:cubicBezTo>
                <a:cubicBezTo>
                  <a:pt x="14403" y="16521"/>
                  <a:pt x="14445" y="16520"/>
                  <a:pt x="14486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Students will multiply and divide integer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ame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 is 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fferent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59200" y="1554120"/>
            <a:ext cx="2482920" cy="714240"/>
          </a:xfrm>
          <a:custGeom>
            <a:avLst/>
            <a:gdLst/>
            <a:ahLst/>
            <a:rect l="l" t="t" r="r" b="b"/>
            <a:pathLst>
              <a:path w="6897" h="1985">
                <a:moveTo>
                  <a:pt x="13271" y="5531"/>
                </a:moveTo>
                <a:lnTo>
                  <a:pt x="13271" y="5531"/>
                </a:lnTo>
              </a:path>
              <a:path w="6897" h="1985">
                <a:moveTo>
                  <a:pt x="14114" y="4738"/>
                </a:moveTo>
                <a:cubicBezTo>
                  <a:pt x="13960" y="4815"/>
                  <a:pt x="13790" y="4881"/>
                  <a:pt x="13618" y="4936"/>
                </a:cubicBezTo>
                <a:cubicBezTo>
                  <a:pt x="13469" y="4983"/>
                  <a:pt x="13364" y="5005"/>
                  <a:pt x="13221" y="4986"/>
                </a:cubicBezTo>
                <a:cubicBezTo>
                  <a:pt x="13229" y="5086"/>
                  <a:pt x="13261" y="5184"/>
                  <a:pt x="13271" y="5283"/>
                </a:cubicBezTo>
                <a:cubicBezTo>
                  <a:pt x="13280" y="5374"/>
                  <a:pt x="13279" y="5405"/>
                  <a:pt x="13295" y="5482"/>
                </a:cubicBezTo>
                <a:cubicBezTo>
                  <a:pt x="13369" y="5471"/>
                  <a:pt x="13367" y="5451"/>
                  <a:pt x="13444" y="5407"/>
                </a:cubicBezTo>
                <a:cubicBezTo>
                  <a:pt x="13587" y="5326"/>
                  <a:pt x="13742" y="5257"/>
                  <a:pt x="13891" y="5358"/>
                </a:cubicBezTo>
                <a:cubicBezTo>
                  <a:pt x="14072" y="5481"/>
                  <a:pt x="13928" y="5737"/>
                  <a:pt x="13816" y="5854"/>
                </a:cubicBezTo>
                <a:cubicBezTo>
                  <a:pt x="13675" y="6002"/>
                  <a:pt x="13493" y="6076"/>
                  <a:pt x="13295" y="6003"/>
                </a:cubicBezTo>
                <a:cubicBezTo>
                  <a:pt x="13287" y="5995"/>
                  <a:pt x="13279" y="5986"/>
                  <a:pt x="13271" y="5978"/>
                </a:cubicBezTo>
              </a:path>
              <a:path w="6897" h="1985">
                <a:moveTo>
                  <a:pt x="14635" y="4564"/>
                </a:moveTo>
                <a:cubicBezTo>
                  <a:pt x="14536" y="4746"/>
                  <a:pt x="14426" y="4943"/>
                  <a:pt x="14387" y="5159"/>
                </a:cubicBezTo>
                <a:cubicBezTo>
                  <a:pt x="14330" y="5475"/>
                  <a:pt x="14341" y="5858"/>
                  <a:pt x="14585" y="6102"/>
                </a:cubicBezTo>
                <a:cubicBezTo>
                  <a:pt x="14659" y="6176"/>
                  <a:pt x="14802" y="6241"/>
                  <a:pt x="14908" y="6226"/>
                </a:cubicBezTo>
                <a:cubicBezTo>
                  <a:pt x="14954" y="6219"/>
                  <a:pt x="14920" y="6213"/>
                  <a:pt x="14932" y="6176"/>
                </a:cubicBezTo>
              </a:path>
              <a:path w="6897" h="1985">
                <a:moveTo>
                  <a:pt x="15131" y="5407"/>
                </a:moveTo>
                <a:cubicBezTo>
                  <a:pt x="15206" y="5377"/>
                  <a:pt x="15259" y="5339"/>
                  <a:pt x="15354" y="5333"/>
                </a:cubicBezTo>
                <a:cubicBezTo>
                  <a:pt x="15382" y="5333"/>
                  <a:pt x="15393" y="5331"/>
                  <a:pt x="15404" y="5308"/>
                </a:cubicBezTo>
              </a:path>
              <a:path w="6897" h="1985">
                <a:moveTo>
                  <a:pt x="15677" y="4911"/>
                </a:moveTo>
                <a:cubicBezTo>
                  <a:pt x="15752" y="4851"/>
                  <a:pt x="15821" y="4765"/>
                  <a:pt x="15925" y="4762"/>
                </a:cubicBezTo>
                <a:cubicBezTo>
                  <a:pt x="16121" y="4756"/>
                  <a:pt x="16087" y="4943"/>
                  <a:pt x="16024" y="5060"/>
                </a:cubicBezTo>
                <a:cubicBezTo>
                  <a:pt x="15975" y="5150"/>
                  <a:pt x="15900" y="5195"/>
                  <a:pt x="15825" y="5259"/>
                </a:cubicBezTo>
                <a:cubicBezTo>
                  <a:pt x="15903" y="5217"/>
                  <a:pt x="15977" y="5162"/>
                  <a:pt x="16098" y="5209"/>
                </a:cubicBezTo>
                <a:cubicBezTo>
                  <a:pt x="16262" y="5273"/>
                  <a:pt x="16256" y="5494"/>
                  <a:pt x="16222" y="5631"/>
                </a:cubicBezTo>
                <a:cubicBezTo>
                  <a:pt x="16167" y="5854"/>
                  <a:pt x="15953" y="5905"/>
                  <a:pt x="15751" y="5928"/>
                </a:cubicBezTo>
                <a:cubicBezTo>
                  <a:pt x="15640" y="5940"/>
                  <a:pt x="15626" y="5936"/>
                  <a:pt x="15602" y="5854"/>
                </a:cubicBezTo>
              </a:path>
              <a:path w="6897" h="1985">
                <a:moveTo>
                  <a:pt x="16098" y="4341"/>
                </a:moveTo>
                <a:cubicBezTo>
                  <a:pt x="16136" y="4328"/>
                  <a:pt x="16225" y="4324"/>
                  <a:pt x="16297" y="4390"/>
                </a:cubicBezTo>
                <a:cubicBezTo>
                  <a:pt x="16562" y="4635"/>
                  <a:pt x="16799" y="5124"/>
                  <a:pt x="16818" y="5482"/>
                </a:cubicBezTo>
                <a:cubicBezTo>
                  <a:pt x="16833" y="5760"/>
                  <a:pt x="16724" y="6024"/>
                  <a:pt x="16545" y="6226"/>
                </a:cubicBezTo>
                <a:cubicBezTo>
                  <a:pt x="16506" y="6265"/>
                  <a:pt x="16489" y="6266"/>
                  <a:pt x="16495" y="6300"/>
                </a:cubicBezTo>
              </a:path>
              <a:path w="6897" h="1985">
                <a:moveTo>
                  <a:pt x="17289" y="5234"/>
                </a:moveTo>
                <a:cubicBezTo>
                  <a:pt x="17379" y="5200"/>
                  <a:pt x="17463" y="5187"/>
                  <a:pt x="17562" y="5184"/>
                </a:cubicBezTo>
                <a:cubicBezTo>
                  <a:pt x="17670" y="5181"/>
                  <a:pt x="17748" y="5159"/>
                  <a:pt x="17810" y="5234"/>
                </a:cubicBezTo>
              </a:path>
              <a:path w="6897" h="1985">
                <a:moveTo>
                  <a:pt x="17338" y="5581"/>
                </a:moveTo>
                <a:cubicBezTo>
                  <a:pt x="17493" y="5581"/>
                  <a:pt x="17665" y="5604"/>
                  <a:pt x="17810" y="5556"/>
                </a:cubicBezTo>
              </a:path>
              <a:path w="6897" h="1985">
                <a:moveTo>
                  <a:pt x="19050" y="4787"/>
                </a:moveTo>
                <a:cubicBezTo>
                  <a:pt x="19050" y="4762"/>
                  <a:pt x="19050" y="4738"/>
                  <a:pt x="19050" y="4713"/>
                </a:cubicBezTo>
                <a:cubicBezTo>
                  <a:pt x="19073" y="4938"/>
                  <a:pt x="19097" y="5156"/>
                  <a:pt x="19100" y="5383"/>
                </a:cubicBezTo>
                <a:cubicBezTo>
                  <a:pt x="19100" y="5390"/>
                  <a:pt x="19121" y="5738"/>
                  <a:pt x="19124" y="5730"/>
                </a:cubicBezTo>
                <a:cubicBezTo>
                  <a:pt x="19132" y="5697"/>
                  <a:pt x="19141" y="5664"/>
                  <a:pt x="19149" y="5631"/>
                </a:cubicBezTo>
              </a:path>
              <a:path w="6897" h="1985">
                <a:moveTo>
                  <a:pt x="20117" y="4589"/>
                </a:moveTo>
                <a:cubicBezTo>
                  <a:pt x="20100" y="4639"/>
                  <a:pt x="19973" y="4658"/>
                  <a:pt x="19918" y="4663"/>
                </a:cubicBezTo>
                <a:cubicBezTo>
                  <a:pt x="19858" y="4669"/>
                  <a:pt x="19616" y="4647"/>
                  <a:pt x="19571" y="4688"/>
                </a:cubicBezTo>
                <a:cubicBezTo>
                  <a:pt x="19487" y="4764"/>
                  <a:pt x="19521" y="4939"/>
                  <a:pt x="19521" y="5035"/>
                </a:cubicBezTo>
                <a:cubicBezTo>
                  <a:pt x="19521" y="5076"/>
                  <a:pt x="19521" y="5118"/>
                  <a:pt x="19521" y="5159"/>
                </a:cubicBezTo>
                <a:cubicBezTo>
                  <a:pt x="19590" y="5159"/>
                  <a:pt x="19628" y="5120"/>
                  <a:pt x="19695" y="5085"/>
                </a:cubicBezTo>
                <a:cubicBezTo>
                  <a:pt x="19790" y="5036"/>
                  <a:pt x="19952" y="4949"/>
                  <a:pt x="20042" y="5060"/>
                </a:cubicBezTo>
                <a:cubicBezTo>
                  <a:pt x="20119" y="5155"/>
                  <a:pt x="20099" y="5293"/>
                  <a:pt x="20042" y="5383"/>
                </a:cubicBezTo>
                <a:cubicBezTo>
                  <a:pt x="19949" y="5530"/>
                  <a:pt x="19787" y="5578"/>
                  <a:pt x="19621" y="5606"/>
                </a:cubicBezTo>
                <a:cubicBezTo>
                  <a:pt x="19571" y="5614"/>
                  <a:pt x="19562" y="5591"/>
                  <a:pt x="19521" y="5581"/>
                </a:cubicBezTo>
              </a:path>
              <a:path w="6897" h="1985">
                <a:moveTo>
                  <a:pt x="18231" y="4812"/>
                </a:moveTo>
                <a:cubicBezTo>
                  <a:pt x="18276" y="4845"/>
                  <a:pt x="18346" y="4852"/>
                  <a:pt x="18405" y="4837"/>
                </a:cubicBezTo>
                <a:cubicBezTo>
                  <a:pt x="18459" y="4823"/>
                  <a:pt x="18474" y="4812"/>
                  <a:pt x="18529" y="4812"/>
                </a:cubicBezTo>
                <a:cubicBezTo>
                  <a:pt x="18537" y="4812"/>
                  <a:pt x="18546" y="4812"/>
                  <a:pt x="18554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509920"/>
            <a:ext cx="812880" cy="401400"/>
          </a:xfrm>
          <a:custGeom>
            <a:avLst/>
            <a:gdLst/>
            <a:ahLst/>
            <a:rect l="l" t="t" r="r" b="b"/>
            <a:pathLst>
              <a:path w="2258" h="1117">
                <a:moveTo>
                  <a:pt x="13246" y="7342"/>
                </a:moveTo>
                <a:cubicBezTo>
                  <a:pt x="13201" y="7342"/>
                  <a:pt x="13092" y="7350"/>
                  <a:pt x="13122" y="7317"/>
                </a:cubicBezTo>
                <a:cubicBezTo>
                  <a:pt x="13130" y="7308"/>
                  <a:pt x="13297" y="7388"/>
                  <a:pt x="13320" y="7392"/>
                </a:cubicBezTo>
                <a:cubicBezTo>
                  <a:pt x="13403" y="7407"/>
                  <a:pt x="13340" y="7399"/>
                  <a:pt x="13395" y="7417"/>
                </a:cubicBezTo>
              </a:path>
              <a:path w="2258" h="1117">
                <a:moveTo>
                  <a:pt x="14263" y="7119"/>
                </a:moveTo>
                <a:cubicBezTo>
                  <a:pt x="14165" y="7135"/>
                  <a:pt x="14065" y="7159"/>
                  <a:pt x="13965" y="7169"/>
                </a:cubicBezTo>
                <a:cubicBezTo>
                  <a:pt x="13863" y="7179"/>
                  <a:pt x="13836" y="7166"/>
                  <a:pt x="13816" y="7293"/>
                </a:cubicBezTo>
                <a:cubicBezTo>
                  <a:pt x="13809" y="7338"/>
                  <a:pt x="13816" y="7394"/>
                  <a:pt x="13816" y="7441"/>
                </a:cubicBezTo>
                <a:cubicBezTo>
                  <a:pt x="13897" y="7426"/>
                  <a:pt x="14004" y="7390"/>
                  <a:pt x="14089" y="7417"/>
                </a:cubicBezTo>
                <a:cubicBezTo>
                  <a:pt x="14232" y="7463"/>
                  <a:pt x="14255" y="7637"/>
                  <a:pt x="14163" y="7739"/>
                </a:cubicBezTo>
                <a:cubicBezTo>
                  <a:pt x="14071" y="7841"/>
                  <a:pt x="13844" y="7924"/>
                  <a:pt x="13717" y="7838"/>
                </a:cubicBezTo>
                <a:cubicBezTo>
                  <a:pt x="13697" y="7798"/>
                  <a:pt x="13688" y="7792"/>
                  <a:pt x="13692" y="7764"/>
                </a:cubicBezTo>
              </a:path>
              <a:path w="2258" h="1117">
                <a:moveTo>
                  <a:pt x="14833" y="6970"/>
                </a:moveTo>
                <a:cubicBezTo>
                  <a:pt x="14705" y="7120"/>
                  <a:pt x="14612" y="7319"/>
                  <a:pt x="14585" y="7516"/>
                </a:cubicBezTo>
                <a:cubicBezTo>
                  <a:pt x="14563" y="7678"/>
                  <a:pt x="14582" y="7968"/>
                  <a:pt x="14759" y="8062"/>
                </a:cubicBezTo>
                <a:cubicBezTo>
                  <a:pt x="14800" y="8062"/>
                  <a:pt x="14816" y="8054"/>
                  <a:pt x="14808" y="8086"/>
                </a:cubicBezTo>
              </a:path>
              <a:path w="2258" h="1117">
                <a:moveTo>
                  <a:pt x="15131" y="7516"/>
                </a:moveTo>
                <a:cubicBezTo>
                  <a:pt x="15204" y="7507"/>
                  <a:pt x="15265" y="7457"/>
                  <a:pt x="15329" y="7441"/>
                </a:cubicBezTo>
                <a:cubicBezTo>
                  <a:pt x="15346" y="7441"/>
                  <a:pt x="15362" y="7441"/>
                  <a:pt x="1537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76920" y="2394000"/>
            <a:ext cx="527040" cy="544320"/>
          </a:xfrm>
          <a:custGeom>
            <a:avLst/>
            <a:gdLst/>
            <a:ahLst/>
            <a:rect l="l" t="t" r="r" b="b"/>
            <a:pathLst>
              <a:path w="1464" h="1514">
                <a:moveTo>
                  <a:pt x="16222" y="6995"/>
                </a:moveTo>
                <a:cubicBezTo>
                  <a:pt x="16257" y="6948"/>
                  <a:pt x="16297" y="6906"/>
                  <a:pt x="16371" y="6970"/>
                </a:cubicBezTo>
                <a:cubicBezTo>
                  <a:pt x="16487" y="7070"/>
                  <a:pt x="16358" y="7186"/>
                  <a:pt x="16272" y="7243"/>
                </a:cubicBezTo>
                <a:cubicBezTo>
                  <a:pt x="16255" y="7251"/>
                  <a:pt x="16239" y="7260"/>
                  <a:pt x="16222" y="7268"/>
                </a:cubicBezTo>
                <a:cubicBezTo>
                  <a:pt x="16306" y="7247"/>
                  <a:pt x="16340" y="7192"/>
                  <a:pt x="16446" y="7243"/>
                </a:cubicBezTo>
                <a:cubicBezTo>
                  <a:pt x="16625" y="7330"/>
                  <a:pt x="16390" y="7533"/>
                  <a:pt x="16321" y="7590"/>
                </a:cubicBezTo>
                <a:cubicBezTo>
                  <a:pt x="16234" y="7662"/>
                  <a:pt x="16158" y="7695"/>
                  <a:pt x="16049" y="7714"/>
                </a:cubicBezTo>
              </a:path>
              <a:path w="1464" h="1514">
                <a:moveTo>
                  <a:pt x="16470" y="6648"/>
                </a:moveTo>
                <a:cubicBezTo>
                  <a:pt x="16601" y="6778"/>
                  <a:pt x="16643" y="6862"/>
                  <a:pt x="16694" y="7045"/>
                </a:cubicBezTo>
                <a:cubicBezTo>
                  <a:pt x="16774" y="7335"/>
                  <a:pt x="16758" y="7626"/>
                  <a:pt x="16669" y="7913"/>
                </a:cubicBezTo>
                <a:cubicBezTo>
                  <a:pt x="16634" y="8027"/>
                  <a:pt x="16562" y="8094"/>
                  <a:pt x="16495" y="8161"/>
                </a:cubicBezTo>
              </a:path>
              <a:path w="1464" h="1514">
                <a:moveTo>
                  <a:pt x="17264" y="7417"/>
                </a:moveTo>
                <a:cubicBezTo>
                  <a:pt x="17330" y="7417"/>
                  <a:pt x="17377" y="7453"/>
                  <a:pt x="17438" y="7466"/>
                </a:cubicBezTo>
                <a:cubicBezTo>
                  <a:pt x="17479" y="7466"/>
                  <a:pt x="17487" y="7466"/>
                  <a:pt x="17512" y="7466"/>
                </a:cubicBezTo>
              </a:path>
              <a:path w="1464" h="1514">
                <a:moveTo>
                  <a:pt x="17214" y="7714"/>
                </a:moveTo>
                <a:cubicBezTo>
                  <a:pt x="17277" y="7741"/>
                  <a:pt x="17347" y="7770"/>
                  <a:pt x="17413" y="7789"/>
                </a:cubicBezTo>
                <a:cubicBezTo>
                  <a:pt x="17438" y="7789"/>
                  <a:pt x="17446" y="7789"/>
                  <a:pt x="17462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70800" y="2401920"/>
            <a:ext cx="347400" cy="366840"/>
          </a:xfrm>
          <a:custGeom>
            <a:avLst/>
            <a:gdLst/>
            <a:ahLst/>
            <a:rect l="l" t="t" r="r" b="b"/>
            <a:pathLst>
              <a:path w="968" h="1018">
                <a:moveTo>
                  <a:pt x="18628" y="6772"/>
                </a:moveTo>
                <a:cubicBezTo>
                  <a:pt x="18628" y="6640"/>
                  <a:pt x="18636" y="6987"/>
                  <a:pt x="18628" y="7119"/>
                </a:cubicBezTo>
                <a:cubicBezTo>
                  <a:pt x="18616" y="7310"/>
                  <a:pt x="18544" y="7478"/>
                  <a:pt x="18529" y="7665"/>
                </a:cubicBezTo>
                <a:cubicBezTo>
                  <a:pt x="18529" y="7689"/>
                  <a:pt x="18529" y="7697"/>
                  <a:pt x="18529" y="7665"/>
                </a:cubicBezTo>
              </a:path>
              <a:path w="968" h="1018">
                <a:moveTo>
                  <a:pt x="19496" y="6672"/>
                </a:moveTo>
                <a:cubicBezTo>
                  <a:pt x="19383" y="6767"/>
                  <a:pt x="19325" y="6807"/>
                  <a:pt x="19174" y="6772"/>
                </a:cubicBezTo>
                <a:cubicBezTo>
                  <a:pt x="19117" y="6753"/>
                  <a:pt x="19110" y="6744"/>
                  <a:pt x="19075" y="6747"/>
                </a:cubicBezTo>
                <a:cubicBezTo>
                  <a:pt x="19060" y="6838"/>
                  <a:pt x="19013" y="6929"/>
                  <a:pt x="19000" y="7020"/>
                </a:cubicBezTo>
                <a:cubicBezTo>
                  <a:pt x="19000" y="7078"/>
                  <a:pt x="19000" y="7086"/>
                  <a:pt x="19000" y="7119"/>
                </a:cubicBezTo>
                <a:cubicBezTo>
                  <a:pt x="19102" y="7078"/>
                  <a:pt x="19191" y="7017"/>
                  <a:pt x="19323" y="7020"/>
                </a:cubicBezTo>
                <a:cubicBezTo>
                  <a:pt x="19515" y="7025"/>
                  <a:pt x="19551" y="7233"/>
                  <a:pt x="19447" y="7367"/>
                </a:cubicBezTo>
                <a:cubicBezTo>
                  <a:pt x="19291" y="7569"/>
                  <a:pt x="19013" y="7618"/>
                  <a:pt x="18802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0000" y="3017880"/>
            <a:ext cx="1517760" cy="750960"/>
          </a:xfrm>
          <a:custGeom>
            <a:avLst/>
            <a:gdLst/>
            <a:ahLst/>
            <a:rect l="l" t="t" r="r" b="b"/>
            <a:pathLst>
              <a:path w="4217" h="2085">
                <a:moveTo>
                  <a:pt x="13047" y="9079"/>
                </a:moveTo>
                <a:cubicBezTo>
                  <a:pt x="13022" y="9079"/>
                  <a:pt x="13014" y="9079"/>
                  <a:pt x="12998" y="9079"/>
                </a:cubicBezTo>
                <a:cubicBezTo>
                  <a:pt x="13081" y="9095"/>
                  <a:pt x="13157" y="9103"/>
                  <a:pt x="13246" y="9103"/>
                </a:cubicBezTo>
                <a:cubicBezTo>
                  <a:pt x="13271" y="9103"/>
                  <a:pt x="13279" y="9103"/>
                  <a:pt x="13295" y="9103"/>
                </a:cubicBezTo>
              </a:path>
              <a:path w="4217" h="2085">
                <a:moveTo>
                  <a:pt x="13990" y="8855"/>
                </a:moveTo>
                <a:cubicBezTo>
                  <a:pt x="13892" y="8871"/>
                  <a:pt x="13792" y="8895"/>
                  <a:pt x="13692" y="8905"/>
                </a:cubicBezTo>
                <a:cubicBezTo>
                  <a:pt x="13571" y="8917"/>
                  <a:pt x="13600" y="8825"/>
                  <a:pt x="13519" y="8954"/>
                </a:cubicBezTo>
                <a:cubicBezTo>
                  <a:pt x="13484" y="9010"/>
                  <a:pt x="13494" y="9066"/>
                  <a:pt x="13494" y="9128"/>
                </a:cubicBezTo>
                <a:cubicBezTo>
                  <a:pt x="13593" y="9117"/>
                  <a:pt x="13688" y="9088"/>
                  <a:pt x="13791" y="9103"/>
                </a:cubicBezTo>
                <a:cubicBezTo>
                  <a:pt x="13906" y="9120"/>
                  <a:pt x="14034" y="9185"/>
                  <a:pt x="13990" y="9327"/>
                </a:cubicBezTo>
                <a:cubicBezTo>
                  <a:pt x="13940" y="9486"/>
                  <a:pt x="13757" y="9509"/>
                  <a:pt x="13618" y="9525"/>
                </a:cubicBezTo>
                <a:cubicBezTo>
                  <a:pt x="13552" y="9533"/>
                  <a:pt x="13532" y="9541"/>
                  <a:pt x="13519" y="9500"/>
                </a:cubicBezTo>
              </a:path>
              <a:path w="4217" h="2085">
                <a:moveTo>
                  <a:pt x="14412" y="8657"/>
                </a:moveTo>
                <a:cubicBezTo>
                  <a:pt x="14319" y="8773"/>
                  <a:pt x="14289" y="8960"/>
                  <a:pt x="14263" y="9103"/>
                </a:cubicBezTo>
                <a:cubicBezTo>
                  <a:pt x="14234" y="9263"/>
                  <a:pt x="14211" y="9515"/>
                  <a:pt x="14337" y="9649"/>
                </a:cubicBezTo>
                <a:cubicBezTo>
                  <a:pt x="14357" y="9671"/>
                  <a:pt x="14409" y="9692"/>
                  <a:pt x="14436" y="9699"/>
                </a:cubicBezTo>
              </a:path>
              <a:path w="4217" h="2085">
                <a:moveTo>
                  <a:pt x="14585" y="9079"/>
                </a:moveTo>
                <a:cubicBezTo>
                  <a:pt x="14631" y="9079"/>
                  <a:pt x="14726" y="9049"/>
                  <a:pt x="14759" y="9054"/>
                </a:cubicBezTo>
                <a:cubicBezTo>
                  <a:pt x="14767" y="9062"/>
                  <a:pt x="14776" y="9071"/>
                  <a:pt x="14784" y="9079"/>
                </a:cubicBezTo>
              </a:path>
              <a:path w="4217" h="2085">
                <a:moveTo>
                  <a:pt x="15032" y="8806"/>
                </a:moveTo>
                <a:cubicBezTo>
                  <a:pt x="15093" y="8771"/>
                  <a:pt x="15140" y="8746"/>
                  <a:pt x="15205" y="8731"/>
                </a:cubicBezTo>
                <a:cubicBezTo>
                  <a:pt x="15268" y="8793"/>
                  <a:pt x="15286" y="8873"/>
                  <a:pt x="15205" y="8954"/>
                </a:cubicBezTo>
                <a:cubicBezTo>
                  <a:pt x="15140" y="8998"/>
                  <a:pt x="15126" y="9009"/>
                  <a:pt x="15081" y="9029"/>
                </a:cubicBezTo>
                <a:cubicBezTo>
                  <a:pt x="15145" y="9018"/>
                  <a:pt x="15270" y="8965"/>
                  <a:pt x="15329" y="9029"/>
                </a:cubicBezTo>
                <a:cubicBezTo>
                  <a:pt x="15405" y="9112"/>
                  <a:pt x="15286" y="9259"/>
                  <a:pt x="15230" y="9302"/>
                </a:cubicBezTo>
                <a:cubicBezTo>
                  <a:pt x="15202" y="9323"/>
                  <a:pt x="15007" y="9400"/>
                  <a:pt x="14982" y="9351"/>
                </a:cubicBezTo>
                <a:cubicBezTo>
                  <a:pt x="14982" y="9288"/>
                  <a:pt x="14990" y="9261"/>
                  <a:pt x="15032" y="9227"/>
                </a:cubicBezTo>
              </a:path>
              <a:path w="4217" h="2085">
                <a:moveTo>
                  <a:pt x="15280" y="8384"/>
                </a:moveTo>
                <a:cubicBezTo>
                  <a:pt x="15376" y="8404"/>
                  <a:pt x="15455" y="8527"/>
                  <a:pt x="15503" y="8607"/>
                </a:cubicBezTo>
                <a:cubicBezTo>
                  <a:pt x="15634" y="8825"/>
                  <a:pt x="15634" y="9056"/>
                  <a:pt x="15528" y="9277"/>
                </a:cubicBezTo>
                <a:cubicBezTo>
                  <a:pt x="15499" y="9336"/>
                  <a:pt x="15406" y="9552"/>
                  <a:pt x="15354" y="9500"/>
                </a:cubicBezTo>
              </a:path>
              <a:path w="4217" h="2085">
                <a:moveTo>
                  <a:pt x="15850" y="8632"/>
                </a:moveTo>
                <a:cubicBezTo>
                  <a:pt x="15850" y="8585"/>
                  <a:pt x="15781" y="8765"/>
                  <a:pt x="15776" y="8781"/>
                </a:cubicBezTo>
                <a:cubicBezTo>
                  <a:pt x="15729" y="8937"/>
                  <a:pt x="15716" y="9197"/>
                  <a:pt x="15776" y="9351"/>
                </a:cubicBezTo>
                <a:cubicBezTo>
                  <a:pt x="15804" y="9422"/>
                  <a:pt x="15851" y="9475"/>
                  <a:pt x="15925" y="9475"/>
                </a:cubicBezTo>
                <a:cubicBezTo>
                  <a:pt x="15933" y="9475"/>
                  <a:pt x="15941" y="9475"/>
                  <a:pt x="15949" y="9475"/>
                </a:cubicBezTo>
              </a:path>
              <a:path w="4217" h="2085">
                <a:moveTo>
                  <a:pt x="16197" y="8855"/>
                </a:moveTo>
                <a:cubicBezTo>
                  <a:pt x="16209" y="8808"/>
                  <a:pt x="16250" y="8734"/>
                  <a:pt x="16297" y="8706"/>
                </a:cubicBezTo>
                <a:cubicBezTo>
                  <a:pt x="16352" y="8674"/>
                  <a:pt x="16431" y="8657"/>
                  <a:pt x="16495" y="8657"/>
                </a:cubicBezTo>
                <a:cubicBezTo>
                  <a:pt x="16528" y="8804"/>
                  <a:pt x="16440" y="8865"/>
                  <a:pt x="16346" y="8979"/>
                </a:cubicBezTo>
                <a:cubicBezTo>
                  <a:pt x="16276" y="9063"/>
                  <a:pt x="16136" y="9157"/>
                  <a:pt x="16098" y="9252"/>
                </a:cubicBezTo>
                <a:cubicBezTo>
                  <a:pt x="16166" y="9286"/>
                  <a:pt x="16220" y="9169"/>
                  <a:pt x="16297" y="9128"/>
                </a:cubicBezTo>
                <a:cubicBezTo>
                  <a:pt x="16353" y="9098"/>
                  <a:pt x="16447" y="9155"/>
                  <a:pt x="16495" y="9178"/>
                </a:cubicBezTo>
                <a:cubicBezTo>
                  <a:pt x="16551" y="9205"/>
                  <a:pt x="16594" y="9222"/>
                  <a:pt x="16644" y="9178"/>
                </a:cubicBezTo>
                <a:cubicBezTo>
                  <a:pt x="16661" y="9161"/>
                  <a:pt x="16677" y="9145"/>
                  <a:pt x="16694" y="9128"/>
                </a:cubicBezTo>
              </a:path>
              <a:path w="4217" h="2085">
                <a:moveTo>
                  <a:pt x="16644" y="8384"/>
                </a:moveTo>
                <a:cubicBezTo>
                  <a:pt x="16771" y="8426"/>
                  <a:pt x="16857" y="8589"/>
                  <a:pt x="16917" y="8706"/>
                </a:cubicBezTo>
                <a:cubicBezTo>
                  <a:pt x="17022" y="8909"/>
                  <a:pt x="17058" y="9137"/>
                  <a:pt x="16966" y="9351"/>
                </a:cubicBezTo>
                <a:cubicBezTo>
                  <a:pt x="16932" y="9431"/>
                  <a:pt x="16838" y="9565"/>
                  <a:pt x="16768" y="9599"/>
                </a:cubicBezTo>
              </a:path>
              <a:path w="4217" h="2085">
                <a:moveTo>
                  <a:pt x="14064" y="9649"/>
                </a:moveTo>
                <a:cubicBezTo>
                  <a:pt x="14064" y="9588"/>
                  <a:pt x="14064" y="9719"/>
                  <a:pt x="14064" y="9748"/>
                </a:cubicBezTo>
                <a:cubicBezTo>
                  <a:pt x="14064" y="9756"/>
                  <a:pt x="14064" y="9765"/>
                  <a:pt x="14064" y="9773"/>
                </a:cubicBezTo>
                <a:cubicBezTo>
                  <a:pt x="14115" y="9773"/>
                  <a:pt x="14140" y="9755"/>
                  <a:pt x="14188" y="9748"/>
                </a:cubicBezTo>
                <a:cubicBezTo>
                  <a:pt x="14305" y="9732"/>
                  <a:pt x="14399" y="9725"/>
                  <a:pt x="14511" y="9748"/>
                </a:cubicBezTo>
                <a:cubicBezTo>
                  <a:pt x="14536" y="9748"/>
                  <a:pt x="14544" y="9748"/>
                  <a:pt x="14560" y="9748"/>
                </a:cubicBezTo>
                <a:cubicBezTo>
                  <a:pt x="14560" y="9648"/>
                  <a:pt x="14685" y="9451"/>
                  <a:pt x="14585" y="9451"/>
                </a:cubicBezTo>
                <a:cubicBezTo>
                  <a:pt x="14569" y="9467"/>
                  <a:pt x="14552" y="9484"/>
                  <a:pt x="14536" y="9500"/>
                </a:cubicBezTo>
              </a:path>
              <a:path w="4217" h="2085">
                <a:moveTo>
                  <a:pt x="14114" y="9971"/>
                </a:moveTo>
                <a:cubicBezTo>
                  <a:pt x="14114" y="9938"/>
                  <a:pt x="14114" y="9905"/>
                  <a:pt x="14114" y="9872"/>
                </a:cubicBezTo>
                <a:cubicBezTo>
                  <a:pt x="14114" y="9967"/>
                  <a:pt x="14078" y="10053"/>
                  <a:pt x="14064" y="10145"/>
                </a:cubicBezTo>
                <a:cubicBezTo>
                  <a:pt x="14064" y="10190"/>
                  <a:pt x="14067" y="10203"/>
                  <a:pt x="14039" y="10220"/>
                </a:cubicBezTo>
              </a:path>
              <a:path w="4217" h="2085">
                <a:moveTo>
                  <a:pt x="14585" y="9823"/>
                </a:moveTo>
                <a:cubicBezTo>
                  <a:pt x="14525" y="9833"/>
                  <a:pt x="14470" y="9866"/>
                  <a:pt x="14412" y="9872"/>
                </a:cubicBezTo>
                <a:cubicBezTo>
                  <a:pt x="14372" y="9876"/>
                  <a:pt x="14365" y="9902"/>
                  <a:pt x="14362" y="9947"/>
                </a:cubicBezTo>
                <a:cubicBezTo>
                  <a:pt x="14362" y="9988"/>
                  <a:pt x="14362" y="9996"/>
                  <a:pt x="14362" y="10021"/>
                </a:cubicBezTo>
                <a:cubicBezTo>
                  <a:pt x="14448" y="10009"/>
                  <a:pt x="14463" y="9936"/>
                  <a:pt x="14560" y="9947"/>
                </a:cubicBezTo>
                <a:cubicBezTo>
                  <a:pt x="14621" y="9954"/>
                  <a:pt x="14723" y="10033"/>
                  <a:pt x="14660" y="10096"/>
                </a:cubicBezTo>
                <a:cubicBezTo>
                  <a:pt x="14613" y="10144"/>
                  <a:pt x="14504" y="10145"/>
                  <a:pt x="14436" y="10145"/>
                </a:cubicBezTo>
              </a:path>
              <a:path w="4217" h="2085">
                <a:moveTo>
                  <a:pt x="15304" y="9847"/>
                </a:moveTo>
                <a:cubicBezTo>
                  <a:pt x="15490" y="9847"/>
                  <a:pt x="15668" y="9847"/>
                  <a:pt x="15850" y="9872"/>
                </a:cubicBezTo>
                <a:cubicBezTo>
                  <a:pt x="15900" y="9879"/>
                  <a:pt x="15906" y="9873"/>
                  <a:pt x="15925" y="9847"/>
                </a:cubicBezTo>
                <a:cubicBezTo>
                  <a:pt x="15977" y="9777"/>
                  <a:pt x="16038" y="9702"/>
                  <a:pt x="15999" y="9624"/>
                </a:cubicBezTo>
                <a:cubicBezTo>
                  <a:pt x="15991" y="9624"/>
                  <a:pt x="15982" y="9624"/>
                  <a:pt x="15974" y="9624"/>
                </a:cubicBezTo>
              </a:path>
              <a:path w="4217" h="2085">
                <a:moveTo>
                  <a:pt x="16197" y="9823"/>
                </a:moveTo>
                <a:cubicBezTo>
                  <a:pt x="16243" y="9777"/>
                  <a:pt x="16278" y="9728"/>
                  <a:pt x="16346" y="9723"/>
                </a:cubicBezTo>
                <a:cubicBezTo>
                  <a:pt x="16363" y="9723"/>
                  <a:pt x="16379" y="9723"/>
                  <a:pt x="16396" y="9723"/>
                </a:cubicBezTo>
                <a:cubicBezTo>
                  <a:pt x="16396" y="9812"/>
                  <a:pt x="16397" y="9863"/>
                  <a:pt x="16321" y="9922"/>
                </a:cubicBezTo>
                <a:cubicBezTo>
                  <a:pt x="16305" y="9930"/>
                  <a:pt x="16288" y="9939"/>
                  <a:pt x="16272" y="9947"/>
                </a:cubicBezTo>
                <a:cubicBezTo>
                  <a:pt x="16344" y="9929"/>
                  <a:pt x="16383" y="9871"/>
                  <a:pt x="16470" y="9922"/>
                </a:cubicBezTo>
                <a:cubicBezTo>
                  <a:pt x="16527" y="9956"/>
                  <a:pt x="16428" y="10101"/>
                  <a:pt x="16396" y="10120"/>
                </a:cubicBezTo>
                <a:cubicBezTo>
                  <a:pt x="16328" y="10160"/>
                  <a:pt x="16280" y="10149"/>
                  <a:pt x="16222" y="10120"/>
                </a:cubicBezTo>
              </a:path>
              <a:path w="4217" h="2085">
                <a:moveTo>
                  <a:pt x="16768" y="9723"/>
                </a:moveTo>
                <a:cubicBezTo>
                  <a:pt x="16708" y="9768"/>
                  <a:pt x="16661" y="9906"/>
                  <a:pt x="16644" y="9996"/>
                </a:cubicBezTo>
                <a:cubicBezTo>
                  <a:pt x="16644" y="10038"/>
                  <a:pt x="16644" y="10046"/>
                  <a:pt x="16644" y="10071"/>
                </a:cubicBezTo>
                <a:cubicBezTo>
                  <a:pt x="16764" y="10071"/>
                  <a:pt x="16802" y="10056"/>
                  <a:pt x="16892" y="9971"/>
                </a:cubicBezTo>
                <a:cubicBezTo>
                  <a:pt x="16975" y="9893"/>
                  <a:pt x="16956" y="9806"/>
                  <a:pt x="16867" y="9748"/>
                </a:cubicBezTo>
                <a:cubicBezTo>
                  <a:pt x="16810" y="9711"/>
                  <a:pt x="16792" y="9718"/>
                  <a:pt x="16743" y="9748"/>
                </a:cubicBezTo>
              </a:path>
              <a:path w="4217" h="2085">
                <a:moveTo>
                  <a:pt x="15949" y="10443"/>
                </a:moveTo>
                <a:cubicBezTo>
                  <a:pt x="16026" y="10456"/>
                  <a:pt x="16090" y="10462"/>
                  <a:pt x="16173" y="10443"/>
                </a:cubicBezTo>
                <a:cubicBezTo>
                  <a:pt x="16273" y="10421"/>
                  <a:pt x="16372" y="10389"/>
                  <a:pt x="16470" y="10368"/>
                </a:cubicBezTo>
                <a:cubicBezTo>
                  <a:pt x="16554" y="10350"/>
                  <a:pt x="16634" y="10324"/>
                  <a:pt x="16718" y="10319"/>
                </a:cubicBezTo>
                <a:cubicBezTo>
                  <a:pt x="16786" y="10315"/>
                  <a:pt x="16855" y="10297"/>
                  <a:pt x="16917" y="10269"/>
                </a:cubicBezTo>
                <a:cubicBezTo>
                  <a:pt x="16999" y="10232"/>
                  <a:pt x="17045" y="10211"/>
                  <a:pt x="17090" y="10120"/>
                </a:cubicBezTo>
                <a:cubicBezTo>
                  <a:pt x="17135" y="10030"/>
                  <a:pt x="17199" y="9925"/>
                  <a:pt x="17214" y="9823"/>
                </a:cubicBezTo>
                <a:cubicBezTo>
                  <a:pt x="17226" y="9737"/>
                  <a:pt x="17217" y="9598"/>
                  <a:pt x="17165" y="9525"/>
                </a:cubicBezTo>
                <a:cubicBezTo>
                  <a:pt x="17101" y="9434"/>
                  <a:pt x="16987" y="9356"/>
                  <a:pt x="16892" y="9302"/>
                </a:cubicBezTo>
                <a:cubicBezTo>
                  <a:pt x="16756" y="9225"/>
                  <a:pt x="16664" y="9218"/>
                  <a:pt x="16520" y="9227"/>
                </a:cubicBezTo>
                <a:cubicBezTo>
                  <a:pt x="16386" y="9236"/>
                  <a:pt x="16242" y="9309"/>
                  <a:pt x="16123" y="9376"/>
                </a:cubicBezTo>
                <a:cubicBezTo>
                  <a:pt x="16020" y="9434"/>
                  <a:pt x="15918" y="9530"/>
                  <a:pt x="15850" y="9624"/>
                </a:cubicBezTo>
                <a:cubicBezTo>
                  <a:pt x="15794" y="9702"/>
                  <a:pt x="15695" y="9802"/>
                  <a:pt x="15677" y="9897"/>
                </a:cubicBezTo>
                <a:cubicBezTo>
                  <a:pt x="15662" y="9974"/>
                  <a:pt x="15672" y="10076"/>
                  <a:pt x="15701" y="10145"/>
                </a:cubicBezTo>
                <a:cubicBezTo>
                  <a:pt x="15746" y="10254"/>
                  <a:pt x="15795" y="10282"/>
                  <a:pt x="15900" y="10319"/>
                </a:cubicBezTo>
                <a:cubicBezTo>
                  <a:pt x="15994" y="10352"/>
                  <a:pt x="16126" y="10320"/>
                  <a:pt x="16222" y="10294"/>
                </a:cubicBezTo>
                <a:cubicBezTo>
                  <a:pt x="16264" y="10283"/>
                  <a:pt x="16350" y="10226"/>
                  <a:pt x="16346" y="10269"/>
                </a:cubicBezTo>
                <a:cubicBezTo>
                  <a:pt x="16346" y="10304"/>
                  <a:pt x="16337" y="10317"/>
                  <a:pt x="16297" y="10319"/>
                </a:cubicBezTo>
              </a:path>
              <a:path w="4217" h="2085">
                <a:moveTo>
                  <a:pt x="15900" y="8954"/>
                </a:moveTo>
                <a:cubicBezTo>
                  <a:pt x="15911" y="8954"/>
                  <a:pt x="16016" y="8954"/>
                  <a:pt x="15949" y="8954"/>
                </a:cubicBezTo>
                <a:cubicBezTo>
                  <a:pt x="15901" y="8954"/>
                  <a:pt x="15997" y="8916"/>
                  <a:pt x="16024" y="8905"/>
                </a:cubicBezTo>
                <a:cubicBezTo>
                  <a:pt x="16032" y="8905"/>
                  <a:pt x="16041" y="8905"/>
                  <a:pt x="16049" y="8905"/>
                </a:cubicBezTo>
              </a:path>
              <a:path w="4217" h="2085">
                <a:moveTo>
                  <a:pt x="15900" y="10021"/>
                </a:moveTo>
                <a:cubicBezTo>
                  <a:pt x="15933" y="10021"/>
                  <a:pt x="15966" y="10021"/>
                  <a:pt x="15999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91040" y="3697200"/>
            <a:ext cx="839880" cy="374760"/>
          </a:xfrm>
          <a:custGeom>
            <a:avLst/>
            <a:gdLst/>
            <a:ahLst/>
            <a:rect l="l" t="t" r="r" b="b"/>
            <a:pathLst>
              <a:path w="2332" h="1043">
                <a:moveTo>
                  <a:pt x="14436" y="10393"/>
                </a:moveTo>
                <a:cubicBezTo>
                  <a:pt x="14519" y="10365"/>
                  <a:pt x="14407" y="10635"/>
                  <a:pt x="14387" y="10691"/>
                </a:cubicBezTo>
                <a:cubicBezTo>
                  <a:pt x="14344" y="10798"/>
                  <a:pt x="14333" y="10822"/>
                  <a:pt x="14312" y="10889"/>
                </a:cubicBezTo>
                <a:cubicBezTo>
                  <a:pt x="14401" y="10919"/>
                  <a:pt x="14553" y="10869"/>
                  <a:pt x="14660" y="10840"/>
                </a:cubicBezTo>
                <a:cubicBezTo>
                  <a:pt x="14717" y="10821"/>
                  <a:pt x="14724" y="10812"/>
                  <a:pt x="14759" y="10815"/>
                </a:cubicBezTo>
              </a:path>
              <a:path w="2332" h="1043">
                <a:moveTo>
                  <a:pt x="14784" y="10294"/>
                </a:moveTo>
                <a:cubicBezTo>
                  <a:pt x="14784" y="10242"/>
                  <a:pt x="14736" y="10465"/>
                  <a:pt x="14734" y="10492"/>
                </a:cubicBezTo>
                <a:cubicBezTo>
                  <a:pt x="14720" y="10665"/>
                  <a:pt x="14689" y="10840"/>
                  <a:pt x="14684" y="11013"/>
                </a:cubicBezTo>
                <a:cubicBezTo>
                  <a:pt x="14681" y="11097"/>
                  <a:pt x="14678" y="11112"/>
                  <a:pt x="14660" y="11187"/>
                </a:cubicBezTo>
                <a:cubicBezTo>
                  <a:pt x="14650" y="11230"/>
                  <a:pt x="14675" y="11326"/>
                  <a:pt x="14635" y="11286"/>
                </a:cubicBezTo>
              </a:path>
              <a:path w="2332" h="1043">
                <a:moveTo>
                  <a:pt x="15304" y="10368"/>
                </a:moveTo>
                <a:cubicBezTo>
                  <a:pt x="15304" y="10344"/>
                  <a:pt x="15304" y="10335"/>
                  <a:pt x="15304" y="10319"/>
                </a:cubicBezTo>
                <a:cubicBezTo>
                  <a:pt x="15226" y="10319"/>
                  <a:pt x="15208" y="10395"/>
                  <a:pt x="15180" y="10468"/>
                </a:cubicBezTo>
                <a:cubicBezTo>
                  <a:pt x="15122" y="10619"/>
                  <a:pt x="15027" y="10823"/>
                  <a:pt x="15032" y="10988"/>
                </a:cubicBezTo>
                <a:cubicBezTo>
                  <a:pt x="15035" y="11089"/>
                  <a:pt x="15087" y="11130"/>
                  <a:pt x="15180" y="11112"/>
                </a:cubicBezTo>
                <a:cubicBezTo>
                  <a:pt x="15288" y="11091"/>
                  <a:pt x="15359" y="10983"/>
                  <a:pt x="15404" y="10889"/>
                </a:cubicBezTo>
                <a:cubicBezTo>
                  <a:pt x="15451" y="10793"/>
                  <a:pt x="15477" y="10667"/>
                  <a:pt x="15429" y="10567"/>
                </a:cubicBezTo>
                <a:cubicBezTo>
                  <a:pt x="15397" y="10500"/>
                  <a:pt x="15308" y="10436"/>
                  <a:pt x="15280" y="10393"/>
                </a:cubicBezTo>
                <a:cubicBezTo>
                  <a:pt x="15280" y="10385"/>
                  <a:pt x="15280" y="10376"/>
                  <a:pt x="15280" y="10368"/>
                </a:cubicBezTo>
              </a:path>
              <a:path w="2332" h="1043">
                <a:moveTo>
                  <a:pt x="15825" y="10740"/>
                </a:moveTo>
                <a:cubicBezTo>
                  <a:pt x="15935" y="10740"/>
                  <a:pt x="16015" y="10768"/>
                  <a:pt x="16123" y="10790"/>
                </a:cubicBezTo>
                <a:cubicBezTo>
                  <a:pt x="16168" y="10799"/>
                  <a:pt x="16157" y="10784"/>
                  <a:pt x="16197" y="10815"/>
                </a:cubicBezTo>
              </a:path>
              <a:path w="2332" h="1043">
                <a:moveTo>
                  <a:pt x="15974" y="10368"/>
                </a:moveTo>
                <a:lnTo>
                  <a:pt x="15974" y="10368"/>
                </a:lnTo>
                <a:lnTo>
                  <a:pt x="15974" y="10368"/>
                </a:lnTo>
                <a:lnTo>
                  <a:pt x="15974" y="10368"/>
                </a:lnTo>
              </a:path>
              <a:path w="2332" h="1043">
                <a:moveTo>
                  <a:pt x="15850" y="11162"/>
                </a:moveTo>
                <a:cubicBezTo>
                  <a:pt x="15850" y="11137"/>
                  <a:pt x="15850" y="11129"/>
                  <a:pt x="15875" y="11137"/>
                </a:cubicBezTo>
              </a:path>
              <a:path w="2332" h="1043">
                <a:moveTo>
                  <a:pt x="13891" y="10666"/>
                </a:moveTo>
                <a:cubicBezTo>
                  <a:pt x="13817" y="10666"/>
                  <a:pt x="14015" y="10666"/>
                  <a:pt x="14015" y="10666"/>
                </a:cubicBezTo>
                <a:cubicBezTo>
                  <a:pt x="14055" y="10653"/>
                  <a:pt x="14046" y="10613"/>
                  <a:pt x="14064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8120" y="3714840"/>
            <a:ext cx="135000" cy="268200"/>
          </a:xfrm>
          <a:custGeom>
            <a:avLst/>
            <a:gdLst/>
            <a:ahLst/>
            <a:rect l="l" t="t" r="r" b="b"/>
            <a:pathLst>
              <a:path w="373" h="745">
                <a:moveTo>
                  <a:pt x="17016" y="10418"/>
                </a:moveTo>
                <a:cubicBezTo>
                  <a:pt x="17081" y="10396"/>
                  <a:pt x="17009" y="10403"/>
                  <a:pt x="16991" y="10368"/>
                </a:cubicBezTo>
                <a:cubicBezTo>
                  <a:pt x="16979" y="10345"/>
                  <a:pt x="16944" y="10322"/>
                  <a:pt x="16917" y="10319"/>
                </a:cubicBezTo>
                <a:cubicBezTo>
                  <a:pt x="16884" y="10315"/>
                  <a:pt x="16840" y="10327"/>
                  <a:pt x="16818" y="10344"/>
                </a:cubicBezTo>
                <a:cubicBezTo>
                  <a:pt x="16768" y="10383"/>
                  <a:pt x="16702" y="10446"/>
                  <a:pt x="16718" y="10517"/>
                </a:cubicBezTo>
                <a:cubicBezTo>
                  <a:pt x="16735" y="10595"/>
                  <a:pt x="16906" y="10672"/>
                  <a:pt x="16966" y="10716"/>
                </a:cubicBezTo>
                <a:cubicBezTo>
                  <a:pt x="17057" y="10783"/>
                  <a:pt x="17118" y="10841"/>
                  <a:pt x="17090" y="10964"/>
                </a:cubicBezTo>
                <a:cubicBezTo>
                  <a:pt x="17068" y="11061"/>
                  <a:pt x="16936" y="11061"/>
                  <a:pt x="16867" y="11038"/>
                </a:cubicBezTo>
                <a:cubicBezTo>
                  <a:pt x="16805" y="11017"/>
                  <a:pt x="16780" y="10947"/>
                  <a:pt x="16818" y="10889"/>
                </a:cubicBezTo>
                <a:cubicBezTo>
                  <a:pt x="16890" y="10780"/>
                  <a:pt x="17007" y="10685"/>
                  <a:pt x="17066" y="10567"/>
                </a:cubicBezTo>
                <a:cubicBezTo>
                  <a:pt x="17083" y="10533"/>
                  <a:pt x="17090" y="10484"/>
                  <a:pt x="17090" y="10443"/>
                </a:cubicBezTo>
                <a:cubicBezTo>
                  <a:pt x="17090" y="10418"/>
                  <a:pt x="17090" y="10410"/>
                  <a:pt x="1709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92880" y="3643200"/>
            <a:ext cx="554040" cy="304920"/>
          </a:xfrm>
          <a:custGeom>
            <a:avLst/>
            <a:gdLst/>
            <a:ahLst/>
            <a:rect l="l" t="t" r="r" b="b"/>
            <a:pathLst>
              <a:path w="1539" h="845">
                <a:moveTo>
                  <a:pt x="17785" y="10616"/>
                </a:moveTo>
                <a:cubicBezTo>
                  <a:pt x="17854" y="10616"/>
                  <a:pt x="17915" y="10599"/>
                  <a:pt x="17983" y="10592"/>
                </a:cubicBezTo>
                <a:cubicBezTo>
                  <a:pt x="17983" y="10567"/>
                  <a:pt x="17983" y="10559"/>
                  <a:pt x="18008" y="10567"/>
                </a:cubicBezTo>
              </a:path>
              <a:path w="1539" h="845">
                <a:moveTo>
                  <a:pt x="17760" y="10840"/>
                </a:moveTo>
                <a:cubicBezTo>
                  <a:pt x="17846" y="10854"/>
                  <a:pt x="17896" y="10846"/>
                  <a:pt x="17983" y="10840"/>
                </a:cubicBezTo>
                <a:cubicBezTo>
                  <a:pt x="18008" y="10840"/>
                  <a:pt x="18016" y="10840"/>
                  <a:pt x="18033" y="10840"/>
                </a:cubicBezTo>
              </a:path>
              <a:path w="1539" h="845">
                <a:moveTo>
                  <a:pt x="19224" y="10170"/>
                </a:moveTo>
                <a:cubicBezTo>
                  <a:pt x="19126" y="10170"/>
                  <a:pt x="19014" y="10192"/>
                  <a:pt x="18926" y="10145"/>
                </a:cubicBezTo>
                <a:cubicBezTo>
                  <a:pt x="18903" y="10122"/>
                  <a:pt x="18899" y="10114"/>
                  <a:pt x="18876" y="10120"/>
                </a:cubicBezTo>
                <a:cubicBezTo>
                  <a:pt x="18858" y="10193"/>
                  <a:pt x="18841" y="10263"/>
                  <a:pt x="18827" y="10344"/>
                </a:cubicBezTo>
                <a:cubicBezTo>
                  <a:pt x="18814" y="10422"/>
                  <a:pt x="18802" y="10466"/>
                  <a:pt x="18802" y="10542"/>
                </a:cubicBezTo>
                <a:cubicBezTo>
                  <a:pt x="18889" y="10478"/>
                  <a:pt x="18963" y="10410"/>
                  <a:pt x="19075" y="10393"/>
                </a:cubicBezTo>
                <a:cubicBezTo>
                  <a:pt x="19199" y="10374"/>
                  <a:pt x="19298" y="10496"/>
                  <a:pt x="19298" y="10616"/>
                </a:cubicBezTo>
                <a:cubicBezTo>
                  <a:pt x="19298" y="10762"/>
                  <a:pt x="19147" y="10890"/>
                  <a:pt x="19025" y="10939"/>
                </a:cubicBezTo>
                <a:cubicBezTo>
                  <a:pt x="18936" y="10975"/>
                  <a:pt x="18845" y="10964"/>
                  <a:pt x="18752" y="10964"/>
                </a:cubicBezTo>
              </a:path>
              <a:path w="1539" h="845">
                <a:moveTo>
                  <a:pt x="18231" y="10294"/>
                </a:moveTo>
                <a:cubicBezTo>
                  <a:pt x="18288" y="10251"/>
                  <a:pt x="18336" y="10263"/>
                  <a:pt x="18405" y="10244"/>
                </a:cubicBezTo>
                <a:cubicBezTo>
                  <a:pt x="18416" y="10241"/>
                  <a:pt x="18509" y="10196"/>
                  <a:pt x="18529" y="10220"/>
                </a:cubicBezTo>
                <a:cubicBezTo>
                  <a:pt x="18529" y="10228"/>
                  <a:pt x="18529" y="10236"/>
                  <a:pt x="18529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26040" y="4303800"/>
            <a:ext cx="1170000" cy="366480"/>
          </a:xfrm>
          <a:custGeom>
            <a:avLst/>
            <a:gdLst/>
            <a:ahLst/>
            <a:rect l="l" t="t" r="r" b="b"/>
            <a:pathLst>
              <a:path w="3250" h="1018">
                <a:moveTo>
                  <a:pt x="14362" y="12105"/>
                </a:moveTo>
                <a:cubicBezTo>
                  <a:pt x="14355" y="12056"/>
                  <a:pt x="14307" y="11994"/>
                  <a:pt x="14362" y="12030"/>
                </a:cubicBezTo>
                <a:cubicBezTo>
                  <a:pt x="14342" y="12205"/>
                  <a:pt x="14289" y="12360"/>
                  <a:pt x="14238" y="12526"/>
                </a:cubicBezTo>
                <a:cubicBezTo>
                  <a:pt x="14238" y="12534"/>
                  <a:pt x="14238" y="12543"/>
                  <a:pt x="14238" y="12551"/>
                </a:cubicBezTo>
                <a:cubicBezTo>
                  <a:pt x="14316" y="12507"/>
                  <a:pt x="14495" y="12410"/>
                  <a:pt x="14585" y="12402"/>
                </a:cubicBezTo>
                <a:cubicBezTo>
                  <a:pt x="14651" y="12424"/>
                  <a:pt x="14676" y="12423"/>
                  <a:pt x="14660" y="12477"/>
                </a:cubicBezTo>
              </a:path>
              <a:path w="3250" h="1018">
                <a:moveTo>
                  <a:pt x="14635" y="11956"/>
                </a:moveTo>
                <a:cubicBezTo>
                  <a:pt x="14614" y="12167"/>
                  <a:pt x="14601" y="12393"/>
                  <a:pt x="14560" y="12601"/>
                </a:cubicBezTo>
                <a:cubicBezTo>
                  <a:pt x="14534" y="12733"/>
                  <a:pt x="14511" y="12759"/>
                  <a:pt x="14511" y="12874"/>
                </a:cubicBezTo>
              </a:path>
              <a:path w="3250" h="1018">
                <a:moveTo>
                  <a:pt x="15056" y="12179"/>
                </a:moveTo>
                <a:cubicBezTo>
                  <a:pt x="15024" y="12168"/>
                  <a:pt x="15042" y="12095"/>
                  <a:pt x="14982" y="12129"/>
                </a:cubicBezTo>
                <a:cubicBezTo>
                  <a:pt x="14852" y="12202"/>
                  <a:pt x="14842" y="12552"/>
                  <a:pt x="14833" y="12675"/>
                </a:cubicBezTo>
                <a:cubicBezTo>
                  <a:pt x="14833" y="12837"/>
                  <a:pt x="14813" y="12873"/>
                  <a:pt x="14883" y="12948"/>
                </a:cubicBezTo>
                <a:cubicBezTo>
                  <a:pt x="15053" y="12961"/>
                  <a:pt x="15167" y="12851"/>
                  <a:pt x="15230" y="12675"/>
                </a:cubicBezTo>
                <a:cubicBezTo>
                  <a:pt x="15299" y="12484"/>
                  <a:pt x="15225" y="12328"/>
                  <a:pt x="15081" y="12204"/>
                </a:cubicBezTo>
                <a:cubicBezTo>
                  <a:pt x="15017" y="12149"/>
                  <a:pt x="15006" y="12129"/>
                  <a:pt x="14957" y="12154"/>
                </a:cubicBezTo>
              </a:path>
              <a:path w="3250" h="1018">
                <a:moveTo>
                  <a:pt x="15553" y="12477"/>
                </a:moveTo>
                <a:cubicBezTo>
                  <a:pt x="15674" y="12431"/>
                  <a:pt x="15794" y="12465"/>
                  <a:pt x="15925" y="12477"/>
                </a:cubicBezTo>
                <a:cubicBezTo>
                  <a:pt x="15978" y="12482"/>
                  <a:pt x="16062" y="12540"/>
                  <a:pt x="16024" y="12502"/>
                </a:cubicBezTo>
                <a:cubicBezTo>
                  <a:pt x="16016" y="12485"/>
                  <a:pt x="16007" y="12469"/>
                  <a:pt x="15999" y="12452"/>
                </a:cubicBezTo>
              </a:path>
              <a:path w="3250" h="1018">
                <a:moveTo>
                  <a:pt x="15677" y="12030"/>
                </a:moveTo>
                <a:cubicBezTo>
                  <a:pt x="15677" y="12038"/>
                  <a:pt x="15677" y="12047"/>
                  <a:pt x="15677" y="12055"/>
                </a:cubicBezTo>
              </a:path>
              <a:path w="3250" h="1018">
                <a:moveTo>
                  <a:pt x="15751" y="12700"/>
                </a:moveTo>
                <a:lnTo>
                  <a:pt x="15751" y="12700"/>
                </a:lnTo>
                <a:lnTo>
                  <a:pt x="15751" y="12700"/>
                </a:lnTo>
                <a:lnTo>
                  <a:pt x="15751" y="12700"/>
                </a:lnTo>
              </a:path>
              <a:path w="3250" h="1018">
                <a:moveTo>
                  <a:pt x="16644" y="12129"/>
                </a:moveTo>
                <a:cubicBezTo>
                  <a:pt x="16688" y="12073"/>
                  <a:pt x="16661" y="12035"/>
                  <a:pt x="16594" y="12005"/>
                </a:cubicBezTo>
                <a:cubicBezTo>
                  <a:pt x="16450" y="11940"/>
                  <a:pt x="16334" y="12033"/>
                  <a:pt x="16272" y="12154"/>
                </a:cubicBezTo>
                <a:cubicBezTo>
                  <a:pt x="16176" y="12340"/>
                  <a:pt x="16517" y="12384"/>
                  <a:pt x="16619" y="12452"/>
                </a:cubicBezTo>
                <a:cubicBezTo>
                  <a:pt x="16688" y="12520"/>
                  <a:pt x="16710" y="12536"/>
                  <a:pt x="16718" y="12601"/>
                </a:cubicBezTo>
                <a:cubicBezTo>
                  <a:pt x="16678" y="12647"/>
                  <a:pt x="16538" y="12751"/>
                  <a:pt x="16495" y="12626"/>
                </a:cubicBezTo>
                <a:cubicBezTo>
                  <a:pt x="16437" y="12459"/>
                  <a:pt x="16578" y="12211"/>
                  <a:pt x="16619" y="12055"/>
                </a:cubicBezTo>
                <a:cubicBezTo>
                  <a:pt x="16619" y="12030"/>
                  <a:pt x="16619" y="12022"/>
                  <a:pt x="16619" y="12005"/>
                </a:cubicBezTo>
              </a:path>
              <a:path w="3250" h="1018">
                <a:moveTo>
                  <a:pt x="17115" y="12278"/>
                </a:moveTo>
                <a:cubicBezTo>
                  <a:pt x="17215" y="12229"/>
                  <a:pt x="17321" y="12158"/>
                  <a:pt x="17438" y="12179"/>
                </a:cubicBezTo>
                <a:cubicBezTo>
                  <a:pt x="17487" y="12204"/>
                  <a:pt x="17503" y="12213"/>
                  <a:pt x="17462" y="12254"/>
                </a:cubicBezTo>
              </a:path>
              <a:path w="3250" h="1018">
                <a:moveTo>
                  <a:pt x="17264" y="12551"/>
                </a:moveTo>
                <a:cubicBezTo>
                  <a:pt x="17354" y="12528"/>
                  <a:pt x="17378" y="12520"/>
                  <a:pt x="17438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8160" y="4259160"/>
            <a:ext cx="241560" cy="295200"/>
          </a:xfrm>
          <a:custGeom>
            <a:avLst/>
            <a:gdLst/>
            <a:ahLst/>
            <a:rect l="l" t="t" r="r" b="b"/>
            <a:pathLst>
              <a:path w="671" h="819">
                <a:moveTo>
                  <a:pt x="18777" y="11832"/>
                </a:moveTo>
                <a:cubicBezTo>
                  <a:pt x="18638" y="11862"/>
                  <a:pt x="18475" y="11875"/>
                  <a:pt x="18331" y="11857"/>
                </a:cubicBezTo>
                <a:cubicBezTo>
                  <a:pt x="18248" y="11836"/>
                  <a:pt x="18233" y="11828"/>
                  <a:pt x="18182" y="11832"/>
                </a:cubicBezTo>
                <a:cubicBezTo>
                  <a:pt x="18152" y="11959"/>
                  <a:pt x="18174" y="12050"/>
                  <a:pt x="18182" y="12179"/>
                </a:cubicBezTo>
                <a:cubicBezTo>
                  <a:pt x="18182" y="12187"/>
                  <a:pt x="18182" y="12196"/>
                  <a:pt x="18182" y="12204"/>
                </a:cubicBezTo>
                <a:cubicBezTo>
                  <a:pt x="18303" y="12184"/>
                  <a:pt x="18399" y="12103"/>
                  <a:pt x="18529" y="12129"/>
                </a:cubicBezTo>
                <a:cubicBezTo>
                  <a:pt x="18704" y="12164"/>
                  <a:pt x="18710" y="12389"/>
                  <a:pt x="18604" y="12502"/>
                </a:cubicBezTo>
                <a:cubicBezTo>
                  <a:pt x="18485" y="12628"/>
                  <a:pt x="18266" y="12641"/>
                  <a:pt x="1810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09880" y="5776920"/>
            <a:ext cx="722160" cy="331920"/>
          </a:xfrm>
          <a:custGeom>
            <a:avLst/>
            <a:gdLst/>
            <a:ahLst/>
            <a:rect l="l" t="t" r="r" b="b"/>
            <a:pathLst>
              <a:path w="2010" h="918">
                <a:moveTo>
                  <a:pt x="5606" y="16222"/>
                </a:moveTo>
                <a:cubicBezTo>
                  <a:pt x="5614" y="16192"/>
                  <a:pt x="5623" y="16178"/>
                  <a:pt x="5631" y="16148"/>
                </a:cubicBezTo>
                <a:cubicBezTo>
                  <a:pt x="5694" y="16170"/>
                  <a:pt x="5637" y="16350"/>
                  <a:pt x="5631" y="16396"/>
                </a:cubicBezTo>
                <a:cubicBezTo>
                  <a:pt x="5611" y="16537"/>
                  <a:pt x="5575" y="16744"/>
                  <a:pt x="5606" y="16867"/>
                </a:cubicBezTo>
                <a:cubicBezTo>
                  <a:pt x="5740" y="16908"/>
                  <a:pt x="5806" y="16881"/>
                  <a:pt x="5928" y="16818"/>
                </a:cubicBezTo>
                <a:cubicBezTo>
                  <a:pt x="5969" y="16798"/>
                  <a:pt x="5975" y="16789"/>
                  <a:pt x="6003" y="16793"/>
                </a:cubicBezTo>
              </a:path>
              <a:path w="2010" h="918">
                <a:moveTo>
                  <a:pt x="5606" y="16594"/>
                </a:moveTo>
                <a:cubicBezTo>
                  <a:pt x="5643" y="16546"/>
                  <a:pt x="5755" y="16513"/>
                  <a:pt x="5829" y="16495"/>
                </a:cubicBezTo>
                <a:cubicBezTo>
                  <a:pt x="5854" y="16495"/>
                  <a:pt x="5862" y="16495"/>
                  <a:pt x="5879" y="16495"/>
                </a:cubicBezTo>
              </a:path>
              <a:path w="2010" h="918">
                <a:moveTo>
                  <a:pt x="5631" y="16098"/>
                </a:moveTo>
                <a:cubicBezTo>
                  <a:pt x="5708" y="16079"/>
                  <a:pt x="5881" y="16007"/>
                  <a:pt x="5953" y="16073"/>
                </a:cubicBezTo>
                <a:cubicBezTo>
                  <a:pt x="5983" y="16133"/>
                  <a:pt x="5998" y="16159"/>
                  <a:pt x="6028" y="16197"/>
                </a:cubicBezTo>
              </a:path>
              <a:path w="2010" h="918">
                <a:moveTo>
                  <a:pt x="6102" y="16495"/>
                </a:moveTo>
                <a:cubicBezTo>
                  <a:pt x="6183" y="16648"/>
                  <a:pt x="6273" y="16798"/>
                  <a:pt x="6375" y="16942"/>
                </a:cubicBezTo>
                <a:cubicBezTo>
                  <a:pt x="6383" y="16950"/>
                  <a:pt x="6392" y="16958"/>
                  <a:pt x="6400" y="16966"/>
                </a:cubicBezTo>
                <a:cubicBezTo>
                  <a:pt x="6452" y="16850"/>
                  <a:pt x="6527" y="16720"/>
                  <a:pt x="6548" y="16594"/>
                </a:cubicBezTo>
                <a:cubicBezTo>
                  <a:pt x="6563" y="16506"/>
                  <a:pt x="6527" y="16520"/>
                  <a:pt x="6598" y="16520"/>
                </a:cubicBezTo>
              </a:path>
              <a:path w="2010" h="918">
                <a:moveTo>
                  <a:pt x="6747" y="16694"/>
                </a:moveTo>
                <a:cubicBezTo>
                  <a:pt x="6816" y="16685"/>
                  <a:pt x="6888" y="16673"/>
                  <a:pt x="6945" y="16644"/>
                </a:cubicBezTo>
                <a:cubicBezTo>
                  <a:pt x="7011" y="16611"/>
                  <a:pt x="6995" y="16615"/>
                  <a:pt x="6995" y="16545"/>
                </a:cubicBezTo>
                <a:cubicBezTo>
                  <a:pt x="6866" y="16521"/>
                  <a:pt x="6828" y="16559"/>
                  <a:pt x="6747" y="16669"/>
                </a:cubicBezTo>
                <a:cubicBezTo>
                  <a:pt x="6646" y="16806"/>
                  <a:pt x="6711" y="16918"/>
                  <a:pt x="6871" y="16966"/>
                </a:cubicBezTo>
                <a:cubicBezTo>
                  <a:pt x="6998" y="17004"/>
                  <a:pt x="7062" y="16909"/>
                  <a:pt x="7144" y="16842"/>
                </a:cubicBezTo>
              </a:path>
              <a:path w="2010" h="918">
                <a:moveTo>
                  <a:pt x="7268" y="16594"/>
                </a:moveTo>
                <a:cubicBezTo>
                  <a:pt x="7252" y="16704"/>
                  <a:pt x="7243" y="16805"/>
                  <a:pt x="7243" y="16917"/>
                </a:cubicBezTo>
                <a:cubicBezTo>
                  <a:pt x="7243" y="16933"/>
                  <a:pt x="7243" y="16950"/>
                  <a:pt x="7243" y="16966"/>
                </a:cubicBezTo>
                <a:cubicBezTo>
                  <a:pt x="7233" y="16865"/>
                  <a:pt x="7177" y="16715"/>
                  <a:pt x="7243" y="16619"/>
                </a:cubicBezTo>
                <a:cubicBezTo>
                  <a:pt x="7322" y="16505"/>
                  <a:pt x="7493" y="16552"/>
                  <a:pt x="7565" y="16644"/>
                </a:cubicBezTo>
                <a:cubicBezTo>
                  <a:pt x="7610" y="16701"/>
                  <a:pt x="7590" y="16799"/>
                  <a:pt x="7590" y="16867"/>
                </a:cubicBezTo>
                <a:cubicBezTo>
                  <a:pt x="7590" y="16875"/>
                  <a:pt x="7590" y="16884"/>
                  <a:pt x="7590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46240" y="5848200"/>
            <a:ext cx="250920" cy="243000"/>
          </a:xfrm>
          <a:custGeom>
            <a:avLst/>
            <a:gdLst/>
            <a:ahLst/>
            <a:rect l="l" t="t" r="r" b="b"/>
            <a:pathLst>
              <a:path w="695" h="671">
                <a:moveTo>
                  <a:pt x="8483" y="16247"/>
                </a:moveTo>
                <a:cubicBezTo>
                  <a:pt x="8483" y="16440"/>
                  <a:pt x="8471" y="16627"/>
                  <a:pt x="8458" y="16818"/>
                </a:cubicBezTo>
                <a:cubicBezTo>
                  <a:pt x="8458" y="16901"/>
                  <a:pt x="8458" y="16950"/>
                  <a:pt x="8458" y="16867"/>
                </a:cubicBezTo>
              </a:path>
              <a:path w="695" h="671">
                <a:moveTo>
                  <a:pt x="8781" y="16371"/>
                </a:moveTo>
                <a:cubicBezTo>
                  <a:pt x="8781" y="16512"/>
                  <a:pt x="8781" y="16652"/>
                  <a:pt x="8781" y="16793"/>
                </a:cubicBezTo>
              </a:path>
              <a:path w="695" h="671">
                <a:moveTo>
                  <a:pt x="8186" y="16545"/>
                </a:moveTo>
                <a:cubicBezTo>
                  <a:pt x="8327" y="16488"/>
                  <a:pt x="8479" y="16437"/>
                  <a:pt x="8632" y="16421"/>
                </a:cubicBezTo>
                <a:cubicBezTo>
                  <a:pt x="8786" y="16405"/>
                  <a:pt x="8805" y="16385"/>
                  <a:pt x="8806" y="16495"/>
                </a:cubicBezTo>
              </a:path>
              <a:path w="695" h="671">
                <a:moveTo>
                  <a:pt x="8186" y="16793"/>
                </a:moveTo>
                <a:cubicBezTo>
                  <a:pt x="8364" y="16745"/>
                  <a:pt x="8548" y="16730"/>
                  <a:pt x="8731" y="16718"/>
                </a:cubicBezTo>
                <a:cubicBezTo>
                  <a:pt x="8787" y="16714"/>
                  <a:pt x="8865" y="16699"/>
                  <a:pt x="8880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46640" y="5830920"/>
            <a:ext cx="1581120" cy="447480"/>
          </a:xfrm>
          <a:custGeom>
            <a:avLst/>
            <a:gdLst/>
            <a:ahLst/>
            <a:rect l="l" t="t" r="r" b="b"/>
            <a:pathLst>
              <a:path w="4391" h="1242">
                <a:moveTo>
                  <a:pt x="9575" y="16421"/>
                </a:moveTo>
                <a:cubicBezTo>
                  <a:pt x="9623" y="16544"/>
                  <a:pt x="9645" y="16660"/>
                  <a:pt x="9649" y="16793"/>
                </a:cubicBezTo>
                <a:cubicBezTo>
                  <a:pt x="9649" y="16854"/>
                  <a:pt x="9658" y="16870"/>
                  <a:pt x="9624" y="16892"/>
                </a:cubicBezTo>
                <a:cubicBezTo>
                  <a:pt x="9605" y="16759"/>
                  <a:pt x="9558" y="16657"/>
                  <a:pt x="9599" y="16520"/>
                </a:cubicBezTo>
                <a:cubicBezTo>
                  <a:pt x="9643" y="16374"/>
                  <a:pt x="9818" y="16266"/>
                  <a:pt x="9947" y="16396"/>
                </a:cubicBezTo>
                <a:cubicBezTo>
                  <a:pt x="10059" y="16508"/>
                  <a:pt x="10088" y="16694"/>
                  <a:pt x="10096" y="16842"/>
                </a:cubicBezTo>
                <a:cubicBezTo>
                  <a:pt x="10098" y="16884"/>
                  <a:pt x="10084" y="16880"/>
                  <a:pt x="10120" y="16892"/>
                </a:cubicBezTo>
              </a:path>
              <a:path w="4391" h="1242">
                <a:moveTo>
                  <a:pt x="10368" y="16718"/>
                </a:moveTo>
                <a:cubicBezTo>
                  <a:pt x="10452" y="16705"/>
                  <a:pt x="10536" y="16685"/>
                  <a:pt x="10616" y="16669"/>
                </a:cubicBezTo>
                <a:cubicBezTo>
                  <a:pt x="10624" y="16669"/>
                  <a:pt x="10633" y="16669"/>
                  <a:pt x="10641" y="16669"/>
                </a:cubicBezTo>
                <a:cubicBezTo>
                  <a:pt x="10620" y="16615"/>
                  <a:pt x="10524" y="16499"/>
                  <a:pt x="10468" y="16470"/>
                </a:cubicBezTo>
                <a:cubicBezTo>
                  <a:pt x="10305" y="16387"/>
                  <a:pt x="10249" y="16589"/>
                  <a:pt x="10244" y="16718"/>
                </a:cubicBezTo>
                <a:cubicBezTo>
                  <a:pt x="10233" y="17010"/>
                  <a:pt x="10388" y="17003"/>
                  <a:pt x="10592" y="16942"/>
                </a:cubicBezTo>
              </a:path>
              <a:path w="4391" h="1242">
                <a:moveTo>
                  <a:pt x="10914" y="16495"/>
                </a:moveTo>
                <a:cubicBezTo>
                  <a:pt x="10799" y="16572"/>
                  <a:pt x="10655" y="16650"/>
                  <a:pt x="10691" y="16818"/>
                </a:cubicBezTo>
                <a:cubicBezTo>
                  <a:pt x="10707" y="16843"/>
                  <a:pt x="10724" y="16867"/>
                  <a:pt x="10740" y="16892"/>
                </a:cubicBezTo>
                <a:cubicBezTo>
                  <a:pt x="10873" y="16883"/>
                  <a:pt x="11007" y="16868"/>
                  <a:pt x="11013" y="16694"/>
                </a:cubicBezTo>
                <a:cubicBezTo>
                  <a:pt x="11015" y="16643"/>
                  <a:pt x="10988" y="16593"/>
                  <a:pt x="10988" y="16644"/>
                </a:cubicBezTo>
                <a:cubicBezTo>
                  <a:pt x="11073" y="16851"/>
                  <a:pt x="11182" y="17019"/>
                  <a:pt x="11088" y="17239"/>
                </a:cubicBezTo>
                <a:cubicBezTo>
                  <a:pt x="11001" y="17444"/>
                  <a:pt x="10740" y="17508"/>
                  <a:pt x="10542" y="17413"/>
                </a:cubicBezTo>
                <a:cubicBezTo>
                  <a:pt x="10517" y="17388"/>
                  <a:pt x="10493" y="17363"/>
                  <a:pt x="10468" y="17338"/>
                </a:cubicBezTo>
              </a:path>
              <a:path w="4391" h="1242">
                <a:moveTo>
                  <a:pt x="11584" y="16644"/>
                </a:moveTo>
                <a:cubicBezTo>
                  <a:pt x="11518" y="16611"/>
                  <a:pt x="11406" y="16480"/>
                  <a:pt x="11311" y="16495"/>
                </a:cubicBezTo>
                <a:cubicBezTo>
                  <a:pt x="11159" y="16518"/>
                  <a:pt x="11044" y="16792"/>
                  <a:pt x="11137" y="16917"/>
                </a:cubicBezTo>
                <a:cubicBezTo>
                  <a:pt x="11273" y="17100"/>
                  <a:pt x="11416" y="16730"/>
                  <a:pt x="11435" y="16669"/>
                </a:cubicBezTo>
                <a:cubicBezTo>
                  <a:pt x="11435" y="16607"/>
                  <a:pt x="11445" y="16592"/>
                  <a:pt x="11410" y="16570"/>
                </a:cubicBezTo>
                <a:cubicBezTo>
                  <a:pt x="11410" y="16679"/>
                  <a:pt x="11418" y="16809"/>
                  <a:pt x="11534" y="16867"/>
                </a:cubicBezTo>
                <a:cubicBezTo>
                  <a:pt x="11686" y="16942"/>
                  <a:pt x="11774" y="16625"/>
                  <a:pt x="11782" y="16545"/>
                </a:cubicBezTo>
                <a:cubicBezTo>
                  <a:pt x="11795" y="16422"/>
                  <a:pt x="11768" y="16316"/>
                  <a:pt x="11757" y="16197"/>
                </a:cubicBezTo>
                <a:cubicBezTo>
                  <a:pt x="11773" y="16391"/>
                  <a:pt x="11846" y="16559"/>
                  <a:pt x="11906" y="16743"/>
                </a:cubicBezTo>
                <a:cubicBezTo>
                  <a:pt x="11936" y="16835"/>
                  <a:pt x="11975" y="16879"/>
                  <a:pt x="11881" y="16818"/>
                </a:cubicBezTo>
              </a:path>
              <a:path w="4391" h="1242">
                <a:moveTo>
                  <a:pt x="11460" y="16545"/>
                </a:moveTo>
                <a:cubicBezTo>
                  <a:pt x="11627" y="16497"/>
                  <a:pt x="11831" y="16459"/>
                  <a:pt x="12005" y="16495"/>
                </a:cubicBezTo>
                <a:cubicBezTo>
                  <a:pt x="12155" y="16526"/>
                  <a:pt x="12184" y="16715"/>
                  <a:pt x="12204" y="16842"/>
                </a:cubicBezTo>
                <a:cubicBezTo>
                  <a:pt x="12204" y="16859"/>
                  <a:pt x="12204" y="16875"/>
                  <a:pt x="12204" y="16892"/>
                </a:cubicBezTo>
              </a:path>
              <a:path w="4391" h="1242">
                <a:moveTo>
                  <a:pt x="12105" y="16222"/>
                </a:moveTo>
                <a:cubicBezTo>
                  <a:pt x="12131" y="16276"/>
                  <a:pt x="12143" y="16296"/>
                  <a:pt x="12179" y="16321"/>
                </a:cubicBezTo>
              </a:path>
              <a:path w="4391" h="1242">
                <a:moveTo>
                  <a:pt x="12427" y="16594"/>
                </a:moveTo>
                <a:cubicBezTo>
                  <a:pt x="12478" y="16670"/>
                  <a:pt x="12539" y="16733"/>
                  <a:pt x="12551" y="16818"/>
                </a:cubicBezTo>
                <a:cubicBezTo>
                  <a:pt x="12598" y="16723"/>
                  <a:pt x="12578" y="16583"/>
                  <a:pt x="12601" y="16470"/>
                </a:cubicBezTo>
                <a:cubicBezTo>
                  <a:pt x="12622" y="16386"/>
                  <a:pt x="12624" y="16339"/>
                  <a:pt x="12650" y="16421"/>
                </a:cubicBezTo>
              </a:path>
              <a:path w="4391" h="1242">
                <a:moveTo>
                  <a:pt x="12750" y="16619"/>
                </a:moveTo>
                <a:cubicBezTo>
                  <a:pt x="12853" y="16593"/>
                  <a:pt x="12935" y="16515"/>
                  <a:pt x="12998" y="16421"/>
                </a:cubicBezTo>
                <a:cubicBezTo>
                  <a:pt x="13006" y="16404"/>
                  <a:pt x="13014" y="16388"/>
                  <a:pt x="13022" y="16371"/>
                </a:cubicBezTo>
                <a:cubicBezTo>
                  <a:pt x="12855" y="16399"/>
                  <a:pt x="12834" y="16448"/>
                  <a:pt x="12750" y="16594"/>
                </a:cubicBezTo>
                <a:cubicBezTo>
                  <a:pt x="12701" y="16691"/>
                  <a:pt x="12684" y="16721"/>
                  <a:pt x="12725" y="16793"/>
                </a:cubicBezTo>
                <a:cubicBezTo>
                  <a:pt x="12876" y="16813"/>
                  <a:pt x="12968" y="16783"/>
                  <a:pt x="13122" y="16743"/>
                </a:cubicBezTo>
              </a:path>
              <a:path w="4391" h="1242">
                <a:moveTo>
                  <a:pt x="13519" y="16470"/>
                </a:moveTo>
                <a:cubicBezTo>
                  <a:pt x="13662" y="16470"/>
                  <a:pt x="13806" y="16458"/>
                  <a:pt x="13940" y="16495"/>
                </a:cubicBezTo>
              </a:path>
              <a:path w="4391" h="1242">
                <a:moveTo>
                  <a:pt x="13543" y="16694"/>
                </a:moveTo>
                <a:cubicBezTo>
                  <a:pt x="13687" y="16673"/>
                  <a:pt x="13818" y="16669"/>
                  <a:pt x="13965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86240" y="5724360"/>
            <a:ext cx="1241640" cy="446400"/>
          </a:xfrm>
          <a:custGeom>
            <a:avLst/>
            <a:gdLst/>
            <a:ahLst/>
            <a:rect l="l" t="t" r="r" b="b"/>
            <a:pathLst>
              <a:path w="3449" h="1241">
                <a:moveTo>
                  <a:pt x="14833" y="16520"/>
                </a:moveTo>
                <a:cubicBezTo>
                  <a:pt x="14916" y="16716"/>
                  <a:pt x="14970" y="16904"/>
                  <a:pt x="15007" y="17115"/>
                </a:cubicBezTo>
                <a:cubicBezTo>
                  <a:pt x="15007" y="17150"/>
                  <a:pt x="14998" y="17154"/>
                  <a:pt x="14957" y="17115"/>
                </a:cubicBezTo>
              </a:path>
              <a:path w="3449" h="1241">
                <a:moveTo>
                  <a:pt x="14684" y="16297"/>
                </a:moveTo>
                <a:cubicBezTo>
                  <a:pt x="14984" y="16332"/>
                  <a:pt x="15219" y="16313"/>
                  <a:pt x="15379" y="16570"/>
                </a:cubicBezTo>
                <a:cubicBezTo>
                  <a:pt x="15185" y="16692"/>
                  <a:pt x="15061" y="16742"/>
                  <a:pt x="14833" y="16718"/>
                </a:cubicBezTo>
              </a:path>
              <a:path w="3449" h="1241">
                <a:moveTo>
                  <a:pt x="15528" y="16321"/>
                </a:moveTo>
                <a:cubicBezTo>
                  <a:pt x="15437" y="16412"/>
                  <a:pt x="15417" y="16466"/>
                  <a:pt x="15379" y="16594"/>
                </a:cubicBezTo>
                <a:cubicBezTo>
                  <a:pt x="15509" y="16712"/>
                  <a:pt x="15653" y="16718"/>
                  <a:pt x="15825" y="16619"/>
                </a:cubicBezTo>
                <a:cubicBezTo>
                  <a:pt x="15850" y="16594"/>
                  <a:pt x="15875" y="16570"/>
                  <a:pt x="15900" y="16545"/>
                </a:cubicBezTo>
                <a:cubicBezTo>
                  <a:pt x="15858" y="16338"/>
                  <a:pt x="15780" y="16338"/>
                  <a:pt x="15577" y="16346"/>
                </a:cubicBezTo>
                <a:cubicBezTo>
                  <a:pt x="15569" y="16346"/>
                  <a:pt x="15561" y="16346"/>
                  <a:pt x="15553" y="16346"/>
                </a:cubicBezTo>
              </a:path>
              <a:path w="3449" h="1241">
                <a:moveTo>
                  <a:pt x="16073" y="16272"/>
                </a:moveTo>
                <a:cubicBezTo>
                  <a:pt x="15968" y="16293"/>
                  <a:pt x="15940" y="16288"/>
                  <a:pt x="15900" y="16346"/>
                </a:cubicBezTo>
                <a:cubicBezTo>
                  <a:pt x="15985" y="16480"/>
                  <a:pt x="16129" y="16481"/>
                  <a:pt x="16247" y="16594"/>
                </a:cubicBezTo>
                <a:cubicBezTo>
                  <a:pt x="16255" y="16611"/>
                  <a:pt x="16264" y="16627"/>
                  <a:pt x="16272" y="16644"/>
                </a:cubicBezTo>
                <a:cubicBezTo>
                  <a:pt x="16181" y="16725"/>
                  <a:pt x="16051" y="16808"/>
                  <a:pt x="15925" y="16718"/>
                </a:cubicBezTo>
                <a:cubicBezTo>
                  <a:pt x="15900" y="16685"/>
                  <a:pt x="15875" y="16652"/>
                  <a:pt x="15850" y="16619"/>
                </a:cubicBezTo>
              </a:path>
              <a:path w="3449" h="1241">
                <a:moveTo>
                  <a:pt x="16421" y="16470"/>
                </a:moveTo>
                <a:cubicBezTo>
                  <a:pt x="16443" y="16578"/>
                  <a:pt x="16446" y="16605"/>
                  <a:pt x="16470" y="16669"/>
                </a:cubicBezTo>
              </a:path>
              <a:path w="3449" h="1241">
                <a:moveTo>
                  <a:pt x="16247" y="15974"/>
                </a:moveTo>
                <a:cubicBezTo>
                  <a:pt x="16255" y="15974"/>
                  <a:pt x="16264" y="15974"/>
                  <a:pt x="16272" y="15974"/>
                </a:cubicBezTo>
              </a:path>
              <a:path w="3449" h="1241">
                <a:moveTo>
                  <a:pt x="16718" y="15900"/>
                </a:moveTo>
                <a:cubicBezTo>
                  <a:pt x="16751" y="16109"/>
                  <a:pt x="16848" y="16358"/>
                  <a:pt x="16842" y="16570"/>
                </a:cubicBezTo>
                <a:cubicBezTo>
                  <a:pt x="16834" y="16586"/>
                  <a:pt x="16826" y="16603"/>
                  <a:pt x="16818" y="16619"/>
                </a:cubicBezTo>
              </a:path>
              <a:path w="3449" h="1241">
                <a:moveTo>
                  <a:pt x="16520" y="16297"/>
                </a:moveTo>
                <a:cubicBezTo>
                  <a:pt x="16704" y="16273"/>
                  <a:pt x="16953" y="16175"/>
                  <a:pt x="17090" y="16346"/>
                </a:cubicBezTo>
                <a:cubicBezTo>
                  <a:pt x="17168" y="16444"/>
                  <a:pt x="17176" y="16560"/>
                  <a:pt x="17140" y="16669"/>
                </a:cubicBezTo>
              </a:path>
              <a:path w="3449" h="1241">
                <a:moveTo>
                  <a:pt x="16966" y="15974"/>
                </a:moveTo>
                <a:cubicBezTo>
                  <a:pt x="16974" y="15974"/>
                  <a:pt x="16983" y="15974"/>
                  <a:pt x="16991" y="15974"/>
                </a:cubicBezTo>
              </a:path>
              <a:path w="3449" h="1241">
                <a:moveTo>
                  <a:pt x="17214" y="16197"/>
                </a:moveTo>
                <a:cubicBezTo>
                  <a:pt x="17283" y="16322"/>
                  <a:pt x="17344" y="16446"/>
                  <a:pt x="17413" y="16570"/>
                </a:cubicBezTo>
                <a:cubicBezTo>
                  <a:pt x="17486" y="16552"/>
                  <a:pt x="17518" y="16412"/>
                  <a:pt x="17537" y="16346"/>
                </a:cubicBezTo>
                <a:cubicBezTo>
                  <a:pt x="17563" y="16252"/>
                  <a:pt x="17576" y="16164"/>
                  <a:pt x="17611" y="16073"/>
                </a:cubicBezTo>
              </a:path>
              <a:path w="3449" h="1241">
                <a:moveTo>
                  <a:pt x="17859" y="16321"/>
                </a:moveTo>
                <a:cubicBezTo>
                  <a:pt x="17913" y="16299"/>
                  <a:pt x="18099" y="16245"/>
                  <a:pt x="18132" y="16197"/>
                </a:cubicBezTo>
                <a:cubicBezTo>
                  <a:pt x="18132" y="16189"/>
                  <a:pt x="18132" y="16181"/>
                  <a:pt x="18132" y="16173"/>
                </a:cubicBezTo>
                <a:cubicBezTo>
                  <a:pt x="18087" y="16127"/>
                  <a:pt x="18031" y="16095"/>
                  <a:pt x="17959" y="16123"/>
                </a:cubicBezTo>
                <a:cubicBezTo>
                  <a:pt x="17822" y="16176"/>
                  <a:pt x="17710" y="16353"/>
                  <a:pt x="17785" y="16495"/>
                </a:cubicBezTo>
                <a:cubicBezTo>
                  <a:pt x="17848" y="16613"/>
                  <a:pt x="18047" y="16521"/>
                  <a:pt x="18132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09880" y="6215040"/>
            <a:ext cx="615960" cy="295200"/>
          </a:xfrm>
          <a:custGeom>
            <a:avLst/>
            <a:gdLst/>
            <a:ahLst/>
            <a:rect l="l" t="t" r="r" b="b"/>
            <a:pathLst>
              <a:path w="1713" h="820">
                <a:moveTo>
                  <a:pt x="5928" y="17314"/>
                </a:moveTo>
                <a:cubicBezTo>
                  <a:pt x="5860" y="17210"/>
                  <a:pt x="5740" y="17404"/>
                  <a:pt x="5705" y="17462"/>
                </a:cubicBezTo>
                <a:cubicBezTo>
                  <a:pt x="5585" y="17664"/>
                  <a:pt x="5559" y="17820"/>
                  <a:pt x="5631" y="18033"/>
                </a:cubicBezTo>
                <a:cubicBezTo>
                  <a:pt x="5812" y="18046"/>
                  <a:pt x="6007" y="17901"/>
                  <a:pt x="6077" y="17711"/>
                </a:cubicBezTo>
                <a:cubicBezTo>
                  <a:pt x="6137" y="17548"/>
                  <a:pt x="6048" y="17364"/>
                  <a:pt x="5904" y="17289"/>
                </a:cubicBezTo>
                <a:cubicBezTo>
                  <a:pt x="5832" y="17252"/>
                  <a:pt x="5807" y="17258"/>
                  <a:pt x="5779" y="17314"/>
                </a:cubicBezTo>
              </a:path>
              <a:path w="1713" h="820">
                <a:moveTo>
                  <a:pt x="6722" y="17859"/>
                </a:moveTo>
                <a:cubicBezTo>
                  <a:pt x="6703" y="17769"/>
                  <a:pt x="6642" y="17712"/>
                  <a:pt x="6548" y="17686"/>
                </a:cubicBezTo>
                <a:cubicBezTo>
                  <a:pt x="6390" y="17643"/>
                  <a:pt x="6265" y="17854"/>
                  <a:pt x="6251" y="17983"/>
                </a:cubicBezTo>
                <a:cubicBezTo>
                  <a:pt x="6273" y="18050"/>
                  <a:pt x="6275" y="18072"/>
                  <a:pt x="6325" y="18083"/>
                </a:cubicBezTo>
                <a:cubicBezTo>
                  <a:pt x="6506" y="18012"/>
                  <a:pt x="6667" y="17937"/>
                  <a:pt x="6672" y="17711"/>
                </a:cubicBezTo>
                <a:cubicBezTo>
                  <a:pt x="6675" y="17572"/>
                  <a:pt x="6607" y="17465"/>
                  <a:pt x="6524" y="17363"/>
                </a:cubicBezTo>
                <a:cubicBezTo>
                  <a:pt x="6545" y="17493"/>
                  <a:pt x="6596" y="17638"/>
                  <a:pt x="6648" y="17760"/>
                </a:cubicBezTo>
                <a:cubicBezTo>
                  <a:pt x="6735" y="17964"/>
                  <a:pt x="6750" y="18011"/>
                  <a:pt x="6945" y="17934"/>
                </a:cubicBezTo>
              </a:path>
              <a:path w="1713" h="820">
                <a:moveTo>
                  <a:pt x="7144" y="17735"/>
                </a:moveTo>
                <a:cubicBezTo>
                  <a:pt x="7093" y="17650"/>
                  <a:pt x="7090" y="17653"/>
                  <a:pt x="6995" y="17611"/>
                </a:cubicBezTo>
                <a:cubicBezTo>
                  <a:pt x="6887" y="17700"/>
                  <a:pt x="6782" y="17824"/>
                  <a:pt x="6821" y="17983"/>
                </a:cubicBezTo>
                <a:cubicBezTo>
                  <a:pt x="6838" y="18008"/>
                  <a:pt x="6854" y="18033"/>
                  <a:pt x="6871" y="18058"/>
                </a:cubicBezTo>
                <a:cubicBezTo>
                  <a:pt x="7051" y="18045"/>
                  <a:pt x="7201" y="18004"/>
                  <a:pt x="7218" y="17785"/>
                </a:cubicBezTo>
                <a:cubicBezTo>
                  <a:pt x="7230" y="17632"/>
                  <a:pt x="7180" y="17456"/>
                  <a:pt x="7045" y="17388"/>
                </a:cubicBezTo>
                <a:cubicBezTo>
                  <a:pt x="7063" y="17540"/>
                  <a:pt x="7113" y="17685"/>
                  <a:pt x="7144" y="17835"/>
                </a:cubicBezTo>
                <a:cubicBezTo>
                  <a:pt x="7175" y="17986"/>
                  <a:pt x="7162" y="17985"/>
                  <a:pt x="7293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2960" y="6276960"/>
            <a:ext cx="204840" cy="144360"/>
          </a:xfrm>
          <a:custGeom>
            <a:avLst/>
            <a:gdLst/>
            <a:ahLst/>
            <a:rect l="l" t="t" r="r" b="b"/>
            <a:pathLst>
              <a:path w="571" h="398">
                <a:moveTo>
                  <a:pt x="8508" y="17512"/>
                </a:moveTo>
                <a:cubicBezTo>
                  <a:pt x="8508" y="17620"/>
                  <a:pt x="8508" y="17727"/>
                  <a:pt x="8508" y="17835"/>
                </a:cubicBezTo>
              </a:path>
              <a:path w="571" h="398">
                <a:moveTo>
                  <a:pt x="8657" y="17438"/>
                </a:moveTo>
                <a:cubicBezTo>
                  <a:pt x="8707" y="17561"/>
                  <a:pt x="8732" y="17687"/>
                  <a:pt x="8781" y="17810"/>
                </a:cubicBezTo>
              </a:path>
              <a:path w="571" h="398">
                <a:moveTo>
                  <a:pt x="8285" y="17661"/>
                </a:moveTo>
                <a:cubicBezTo>
                  <a:pt x="8451" y="17629"/>
                  <a:pt x="8618" y="17605"/>
                  <a:pt x="8781" y="17562"/>
                </a:cubicBezTo>
              </a:path>
              <a:path w="571" h="398">
                <a:moveTo>
                  <a:pt x="8334" y="17810"/>
                </a:moveTo>
                <a:cubicBezTo>
                  <a:pt x="8512" y="17776"/>
                  <a:pt x="8679" y="17728"/>
                  <a:pt x="8855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5120" y="6232680"/>
            <a:ext cx="1509840" cy="384120"/>
          </a:xfrm>
          <a:custGeom>
            <a:avLst/>
            <a:gdLst/>
            <a:ahLst/>
            <a:rect l="l" t="t" r="r" b="b"/>
            <a:pathLst>
              <a:path w="4193" h="1067">
                <a:moveTo>
                  <a:pt x="10319" y="17537"/>
                </a:moveTo>
                <a:cubicBezTo>
                  <a:pt x="10306" y="17499"/>
                  <a:pt x="10294" y="17516"/>
                  <a:pt x="10294" y="17462"/>
                </a:cubicBezTo>
                <a:cubicBezTo>
                  <a:pt x="10294" y="17553"/>
                  <a:pt x="10303" y="17623"/>
                  <a:pt x="10319" y="17711"/>
                </a:cubicBezTo>
                <a:cubicBezTo>
                  <a:pt x="10319" y="17735"/>
                  <a:pt x="10319" y="17744"/>
                  <a:pt x="10319" y="17760"/>
                </a:cubicBezTo>
                <a:cubicBezTo>
                  <a:pt x="10276" y="17633"/>
                  <a:pt x="10318" y="17538"/>
                  <a:pt x="10418" y="17438"/>
                </a:cubicBezTo>
                <a:cubicBezTo>
                  <a:pt x="10541" y="17314"/>
                  <a:pt x="10708" y="17427"/>
                  <a:pt x="10765" y="17562"/>
                </a:cubicBezTo>
                <a:cubicBezTo>
                  <a:pt x="10804" y="17653"/>
                  <a:pt x="10802" y="17790"/>
                  <a:pt x="10716" y="17835"/>
                </a:cubicBezTo>
              </a:path>
              <a:path w="4193" h="1067">
                <a:moveTo>
                  <a:pt x="10988" y="17587"/>
                </a:moveTo>
                <a:cubicBezTo>
                  <a:pt x="11076" y="17537"/>
                  <a:pt x="11128" y="17541"/>
                  <a:pt x="11112" y="17462"/>
                </a:cubicBezTo>
                <a:cubicBezTo>
                  <a:pt x="10980" y="17512"/>
                  <a:pt x="10786" y="17581"/>
                  <a:pt x="10815" y="17760"/>
                </a:cubicBezTo>
                <a:cubicBezTo>
                  <a:pt x="10855" y="18004"/>
                  <a:pt x="11167" y="17834"/>
                  <a:pt x="11286" y="17785"/>
                </a:cubicBezTo>
              </a:path>
              <a:path w="4193" h="1067">
                <a:moveTo>
                  <a:pt x="11485" y="17537"/>
                </a:moveTo>
                <a:cubicBezTo>
                  <a:pt x="11355" y="17526"/>
                  <a:pt x="11223" y="17593"/>
                  <a:pt x="11212" y="17760"/>
                </a:cubicBezTo>
                <a:cubicBezTo>
                  <a:pt x="11203" y="17909"/>
                  <a:pt x="11367" y="17898"/>
                  <a:pt x="11435" y="17810"/>
                </a:cubicBezTo>
                <a:cubicBezTo>
                  <a:pt x="11443" y="17785"/>
                  <a:pt x="11452" y="17760"/>
                  <a:pt x="11460" y="17735"/>
                </a:cubicBezTo>
                <a:cubicBezTo>
                  <a:pt x="11468" y="17719"/>
                  <a:pt x="11477" y="17702"/>
                  <a:pt x="11485" y="17686"/>
                </a:cubicBezTo>
                <a:cubicBezTo>
                  <a:pt x="11516" y="17743"/>
                  <a:pt x="11604" y="17939"/>
                  <a:pt x="11609" y="18033"/>
                </a:cubicBezTo>
                <a:cubicBezTo>
                  <a:pt x="11623" y="18303"/>
                  <a:pt x="11414" y="18387"/>
                  <a:pt x="11187" y="18380"/>
                </a:cubicBezTo>
                <a:cubicBezTo>
                  <a:pt x="10990" y="18355"/>
                  <a:pt x="10926" y="18349"/>
                  <a:pt x="10840" y="18231"/>
                </a:cubicBezTo>
              </a:path>
              <a:path w="4193" h="1067">
                <a:moveTo>
                  <a:pt x="11931" y="17636"/>
                </a:moveTo>
                <a:cubicBezTo>
                  <a:pt x="11860" y="17538"/>
                  <a:pt x="11766" y="17533"/>
                  <a:pt x="11658" y="17611"/>
                </a:cubicBezTo>
                <a:cubicBezTo>
                  <a:pt x="11550" y="17690"/>
                  <a:pt x="11523" y="17750"/>
                  <a:pt x="11534" y="17859"/>
                </a:cubicBezTo>
                <a:cubicBezTo>
                  <a:pt x="11723" y="17881"/>
                  <a:pt x="11832" y="17865"/>
                  <a:pt x="11931" y="17686"/>
                </a:cubicBezTo>
                <a:cubicBezTo>
                  <a:pt x="11931" y="17678"/>
                  <a:pt x="11931" y="17669"/>
                  <a:pt x="11931" y="17661"/>
                </a:cubicBezTo>
                <a:cubicBezTo>
                  <a:pt x="11964" y="17823"/>
                  <a:pt x="12031" y="17872"/>
                  <a:pt x="12204" y="17859"/>
                </a:cubicBezTo>
                <a:cubicBezTo>
                  <a:pt x="12408" y="17844"/>
                  <a:pt x="12399" y="17670"/>
                  <a:pt x="12402" y="17512"/>
                </a:cubicBezTo>
                <a:cubicBezTo>
                  <a:pt x="12402" y="17405"/>
                  <a:pt x="12402" y="17380"/>
                  <a:pt x="12402" y="17314"/>
                </a:cubicBezTo>
                <a:cubicBezTo>
                  <a:pt x="12379" y="17360"/>
                  <a:pt x="12455" y="17617"/>
                  <a:pt x="12477" y="17686"/>
                </a:cubicBezTo>
                <a:cubicBezTo>
                  <a:pt x="12508" y="17785"/>
                  <a:pt x="12582" y="17828"/>
                  <a:pt x="12477" y="17810"/>
                </a:cubicBezTo>
              </a:path>
              <a:path w="4193" h="1067">
                <a:moveTo>
                  <a:pt x="12154" y="17611"/>
                </a:moveTo>
                <a:cubicBezTo>
                  <a:pt x="12254" y="17608"/>
                  <a:pt x="12603" y="17527"/>
                  <a:pt x="12675" y="17636"/>
                </a:cubicBezTo>
                <a:cubicBezTo>
                  <a:pt x="12709" y="17687"/>
                  <a:pt x="12718" y="17798"/>
                  <a:pt x="12725" y="17859"/>
                </a:cubicBezTo>
              </a:path>
              <a:path w="4193" h="1067">
                <a:moveTo>
                  <a:pt x="12601" y="17438"/>
                </a:moveTo>
                <a:cubicBezTo>
                  <a:pt x="12609" y="17438"/>
                  <a:pt x="12618" y="17438"/>
                  <a:pt x="12626" y="17438"/>
                </a:cubicBezTo>
              </a:path>
              <a:path w="4193" h="1067">
                <a:moveTo>
                  <a:pt x="12898" y="17636"/>
                </a:moveTo>
                <a:cubicBezTo>
                  <a:pt x="12965" y="17734"/>
                  <a:pt x="13017" y="17846"/>
                  <a:pt x="13097" y="17934"/>
                </a:cubicBezTo>
                <a:cubicBezTo>
                  <a:pt x="13105" y="17942"/>
                  <a:pt x="13114" y="17951"/>
                  <a:pt x="13122" y="17959"/>
                </a:cubicBezTo>
                <a:cubicBezTo>
                  <a:pt x="13147" y="17846"/>
                  <a:pt x="13198" y="17734"/>
                  <a:pt x="13221" y="17611"/>
                </a:cubicBezTo>
                <a:cubicBezTo>
                  <a:pt x="13221" y="17603"/>
                  <a:pt x="13221" y="17595"/>
                  <a:pt x="13221" y="17587"/>
                </a:cubicBezTo>
              </a:path>
              <a:path w="4193" h="1067">
                <a:moveTo>
                  <a:pt x="13345" y="17735"/>
                </a:moveTo>
                <a:cubicBezTo>
                  <a:pt x="13436" y="17675"/>
                  <a:pt x="13508" y="17642"/>
                  <a:pt x="13543" y="17537"/>
                </a:cubicBezTo>
                <a:cubicBezTo>
                  <a:pt x="13427" y="17577"/>
                  <a:pt x="13370" y="17681"/>
                  <a:pt x="13370" y="17810"/>
                </a:cubicBezTo>
                <a:cubicBezTo>
                  <a:pt x="13370" y="17978"/>
                  <a:pt x="13484" y="17921"/>
                  <a:pt x="13593" y="17909"/>
                </a:cubicBezTo>
              </a:path>
              <a:path w="4193" h="1067">
                <a:moveTo>
                  <a:pt x="14089" y="17587"/>
                </a:moveTo>
                <a:cubicBezTo>
                  <a:pt x="14162" y="17571"/>
                  <a:pt x="14239" y="17549"/>
                  <a:pt x="14312" y="17537"/>
                </a:cubicBezTo>
              </a:path>
              <a:path w="4193" h="1067">
                <a:moveTo>
                  <a:pt x="14039" y="17735"/>
                </a:moveTo>
                <a:cubicBezTo>
                  <a:pt x="14189" y="17719"/>
                  <a:pt x="14334" y="17662"/>
                  <a:pt x="14486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10160" y="6153120"/>
            <a:ext cx="1419120" cy="446040"/>
          </a:xfrm>
          <a:custGeom>
            <a:avLst/>
            <a:gdLst/>
            <a:ahLst/>
            <a:rect l="l" t="t" r="r" b="b"/>
            <a:pathLst>
              <a:path w="3945" h="1242">
                <a:moveTo>
                  <a:pt x="15379" y="17537"/>
                </a:moveTo>
                <a:cubicBezTo>
                  <a:pt x="15361" y="17628"/>
                  <a:pt x="15354" y="17693"/>
                  <a:pt x="15354" y="17785"/>
                </a:cubicBezTo>
                <a:cubicBezTo>
                  <a:pt x="15302" y="17655"/>
                  <a:pt x="15276" y="17560"/>
                  <a:pt x="15404" y="17462"/>
                </a:cubicBezTo>
                <a:cubicBezTo>
                  <a:pt x="15602" y="17310"/>
                  <a:pt x="15728" y="17482"/>
                  <a:pt x="15825" y="17636"/>
                </a:cubicBezTo>
                <a:cubicBezTo>
                  <a:pt x="15847" y="17672"/>
                  <a:pt x="15900" y="17884"/>
                  <a:pt x="15900" y="17835"/>
                </a:cubicBezTo>
              </a:path>
              <a:path w="3945" h="1242">
                <a:moveTo>
                  <a:pt x="16197" y="17636"/>
                </a:moveTo>
                <a:cubicBezTo>
                  <a:pt x="16290" y="17631"/>
                  <a:pt x="16426" y="17651"/>
                  <a:pt x="16470" y="17562"/>
                </a:cubicBezTo>
                <a:cubicBezTo>
                  <a:pt x="16443" y="17493"/>
                  <a:pt x="16380" y="17426"/>
                  <a:pt x="16297" y="17413"/>
                </a:cubicBezTo>
                <a:cubicBezTo>
                  <a:pt x="16135" y="17387"/>
                  <a:pt x="15950" y="17538"/>
                  <a:pt x="16049" y="17711"/>
                </a:cubicBezTo>
                <a:cubicBezTo>
                  <a:pt x="16137" y="17865"/>
                  <a:pt x="16340" y="17815"/>
                  <a:pt x="16470" y="17810"/>
                </a:cubicBezTo>
              </a:path>
              <a:path w="3945" h="1242">
                <a:moveTo>
                  <a:pt x="16991" y="17487"/>
                </a:moveTo>
                <a:cubicBezTo>
                  <a:pt x="16870" y="17426"/>
                  <a:pt x="16716" y="17523"/>
                  <a:pt x="16619" y="17611"/>
                </a:cubicBezTo>
                <a:cubicBezTo>
                  <a:pt x="16532" y="17720"/>
                  <a:pt x="16499" y="17741"/>
                  <a:pt x="16520" y="17835"/>
                </a:cubicBezTo>
                <a:cubicBezTo>
                  <a:pt x="16666" y="17857"/>
                  <a:pt x="16788" y="17835"/>
                  <a:pt x="16867" y="17686"/>
                </a:cubicBezTo>
                <a:cubicBezTo>
                  <a:pt x="16886" y="17612"/>
                  <a:pt x="16894" y="17605"/>
                  <a:pt x="16892" y="17562"/>
                </a:cubicBezTo>
                <a:cubicBezTo>
                  <a:pt x="16973" y="17682"/>
                  <a:pt x="17057" y="17860"/>
                  <a:pt x="17066" y="18008"/>
                </a:cubicBezTo>
                <a:cubicBezTo>
                  <a:pt x="17079" y="18226"/>
                  <a:pt x="17010" y="18343"/>
                  <a:pt x="16793" y="18331"/>
                </a:cubicBezTo>
                <a:cubicBezTo>
                  <a:pt x="16591" y="18320"/>
                  <a:pt x="16495" y="18249"/>
                  <a:pt x="16346" y="18132"/>
                </a:cubicBezTo>
              </a:path>
              <a:path w="3945" h="1242">
                <a:moveTo>
                  <a:pt x="17487" y="17537"/>
                </a:moveTo>
                <a:cubicBezTo>
                  <a:pt x="17360" y="17511"/>
                  <a:pt x="17311" y="17533"/>
                  <a:pt x="17190" y="17611"/>
                </a:cubicBezTo>
                <a:cubicBezTo>
                  <a:pt x="17109" y="17672"/>
                  <a:pt x="17086" y="17676"/>
                  <a:pt x="17066" y="17735"/>
                </a:cubicBezTo>
                <a:cubicBezTo>
                  <a:pt x="17194" y="17813"/>
                  <a:pt x="17297" y="17777"/>
                  <a:pt x="17413" y="17661"/>
                </a:cubicBezTo>
                <a:cubicBezTo>
                  <a:pt x="17421" y="17644"/>
                  <a:pt x="17430" y="17628"/>
                  <a:pt x="17438" y="17611"/>
                </a:cubicBezTo>
                <a:cubicBezTo>
                  <a:pt x="17438" y="17566"/>
                  <a:pt x="17457" y="17707"/>
                  <a:pt x="17512" y="17735"/>
                </a:cubicBezTo>
                <a:cubicBezTo>
                  <a:pt x="17677" y="17821"/>
                  <a:pt x="17752" y="17667"/>
                  <a:pt x="17785" y="17537"/>
                </a:cubicBezTo>
                <a:cubicBezTo>
                  <a:pt x="17817" y="17411"/>
                  <a:pt x="17827" y="17265"/>
                  <a:pt x="17785" y="17140"/>
                </a:cubicBezTo>
                <a:cubicBezTo>
                  <a:pt x="17785" y="17148"/>
                  <a:pt x="17785" y="17157"/>
                  <a:pt x="17785" y="17165"/>
                </a:cubicBezTo>
                <a:cubicBezTo>
                  <a:pt x="17827" y="17333"/>
                  <a:pt x="17871" y="17478"/>
                  <a:pt x="17934" y="17636"/>
                </a:cubicBezTo>
                <a:cubicBezTo>
                  <a:pt x="17934" y="17644"/>
                  <a:pt x="17934" y="17653"/>
                  <a:pt x="17934" y="17661"/>
                </a:cubicBezTo>
              </a:path>
              <a:path w="3945" h="1242">
                <a:moveTo>
                  <a:pt x="17537" y="17438"/>
                </a:moveTo>
                <a:cubicBezTo>
                  <a:pt x="17707" y="17419"/>
                  <a:pt x="17886" y="17393"/>
                  <a:pt x="18058" y="17413"/>
                </a:cubicBezTo>
                <a:cubicBezTo>
                  <a:pt x="18132" y="17422"/>
                  <a:pt x="18213" y="17518"/>
                  <a:pt x="18231" y="17587"/>
                </a:cubicBezTo>
                <a:cubicBezTo>
                  <a:pt x="18231" y="17603"/>
                  <a:pt x="18231" y="17620"/>
                  <a:pt x="18231" y="17636"/>
                </a:cubicBezTo>
              </a:path>
              <a:path w="3945" h="1242">
                <a:moveTo>
                  <a:pt x="18033" y="17090"/>
                </a:moveTo>
                <a:cubicBezTo>
                  <a:pt x="18103" y="17090"/>
                  <a:pt x="18138" y="17099"/>
                  <a:pt x="18182" y="17140"/>
                </a:cubicBezTo>
              </a:path>
              <a:path w="3945" h="1242">
                <a:moveTo>
                  <a:pt x="18455" y="17388"/>
                </a:moveTo>
                <a:cubicBezTo>
                  <a:pt x="18492" y="17451"/>
                  <a:pt x="18589" y="17543"/>
                  <a:pt x="18604" y="17587"/>
                </a:cubicBezTo>
                <a:cubicBezTo>
                  <a:pt x="18666" y="17507"/>
                  <a:pt x="18678" y="17412"/>
                  <a:pt x="18703" y="17314"/>
                </a:cubicBezTo>
                <a:cubicBezTo>
                  <a:pt x="18722" y="17240"/>
                  <a:pt x="18704" y="17206"/>
                  <a:pt x="18752" y="17214"/>
                </a:cubicBezTo>
              </a:path>
              <a:path w="3945" h="1242">
                <a:moveTo>
                  <a:pt x="19000" y="17363"/>
                </a:moveTo>
                <a:cubicBezTo>
                  <a:pt x="19102" y="17289"/>
                  <a:pt x="19143" y="17267"/>
                  <a:pt x="19199" y="17165"/>
                </a:cubicBezTo>
                <a:cubicBezTo>
                  <a:pt x="19092" y="17207"/>
                  <a:pt x="19006" y="17321"/>
                  <a:pt x="18976" y="17438"/>
                </a:cubicBezTo>
                <a:cubicBezTo>
                  <a:pt x="18923" y="17645"/>
                  <a:pt x="19136" y="17580"/>
                  <a:pt x="19248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t’s try some together: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 (-9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5 (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59000" y="3822840"/>
          <a:ext cx="6728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3822840"/>
                    <a:ext cx="672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76720" y="2057400"/>
          <a:ext cx="914400" cy="26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057400"/>
                    <a:ext cx="9144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187280" y="5124600"/>
          <a:ext cx="161316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5124600"/>
                    <a:ext cx="1613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884320" y="1509840"/>
            <a:ext cx="822600" cy="741240"/>
          </a:xfrm>
          <a:custGeom>
            <a:avLst/>
            <a:gdLst/>
            <a:ahLst/>
            <a:rect l="l" t="t" r="r" b="b"/>
            <a:pathLst>
              <a:path w="2283" h="2060">
                <a:moveTo>
                  <a:pt x="8880" y="4837"/>
                </a:moveTo>
                <a:cubicBezTo>
                  <a:pt x="8880" y="4803"/>
                  <a:pt x="8903" y="5220"/>
                  <a:pt x="8905" y="5259"/>
                </a:cubicBezTo>
                <a:cubicBezTo>
                  <a:pt x="8911" y="5409"/>
                  <a:pt x="8930" y="5556"/>
                  <a:pt x="8930" y="5705"/>
                </a:cubicBezTo>
              </a:path>
              <a:path w="2283" h="2060">
                <a:moveTo>
                  <a:pt x="9723" y="4887"/>
                </a:moveTo>
                <a:cubicBezTo>
                  <a:pt x="9664" y="4806"/>
                  <a:pt x="9561" y="4728"/>
                  <a:pt x="9451" y="4812"/>
                </a:cubicBezTo>
                <a:cubicBezTo>
                  <a:pt x="9363" y="4879"/>
                  <a:pt x="9226" y="5070"/>
                  <a:pt x="9302" y="5184"/>
                </a:cubicBezTo>
                <a:cubicBezTo>
                  <a:pt x="9411" y="5347"/>
                  <a:pt x="9679" y="5355"/>
                  <a:pt x="9748" y="5556"/>
                </a:cubicBezTo>
                <a:cubicBezTo>
                  <a:pt x="9788" y="5674"/>
                  <a:pt x="9669" y="5822"/>
                  <a:pt x="9550" y="5730"/>
                </a:cubicBezTo>
                <a:cubicBezTo>
                  <a:pt x="9405" y="5617"/>
                  <a:pt x="9558" y="5351"/>
                  <a:pt x="9599" y="5234"/>
                </a:cubicBezTo>
                <a:cubicBezTo>
                  <a:pt x="9621" y="5173"/>
                  <a:pt x="9711" y="4984"/>
                  <a:pt x="9674" y="4936"/>
                </a:cubicBezTo>
                <a:cubicBezTo>
                  <a:pt x="9652" y="4914"/>
                  <a:pt x="9643" y="4909"/>
                  <a:pt x="9649" y="4887"/>
                </a:cubicBezTo>
              </a:path>
              <a:path w="2283" h="2060">
                <a:moveTo>
                  <a:pt x="8012" y="5507"/>
                </a:moveTo>
                <a:cubicBezTo>
                  <a:pt x="8062" y="5529"/>
                  <a:pt x="8096" y="5527"/>
                  <a:pt x="8136" y="5581"/>
                </a:cubicBezTo>
                <a:cubicBezTo>
                  <a:pt x="8209" y="5679"/>
                  <a:pt x="8269" y="5743"/>
                  <a:pt x="8359" y="5829"/>
                </a:cubicBezTo>
                <a:cubicBezTo>
                  <a:pt x="8472" y="5938"/>
                  <a:pt x="8586" y="6005"/>
                  <a:pt x="8706" y="6102"/>
                </a:cubicBezTo>
                <a:cubicBezTo>
                  <a:pt x="8827" y="6200"/>
                  <a:pt x="8895" y="6246"/>
                  <a:pt x="9054" y="6251"/>
                </a:cubicBezTo>
                <a:cubicBezTo>
                  <a:pt x="9185" y="6255"/>
                  <a:pt x="9344" y="6241"/>
                  <a:pt x="9475" y="6226"/>
                </a:cubicBezTo>
                <a:cubicBezTo>
                  <a:pt x="9632" y="6208"/>
                  <a:pt x="9738" y="6150"/>
                  <a:pt x="9872" y="6077"/>
                </a:cubicBezTo>
                <a:cubicBezTo>
                  <a:pt x="10018" y="5998"/>
                  <a:pt x="10083" y="5916"/>
                  <a:pt x="10170" y="5779"/>
                </a:cubicBezTo>
                <a:cubicBezTo>
                  <a:pt x="10280" y="5606"/>
                  <a:pt x="10294" y="5485"/>
                  <a:pt x="10294" y="5283"/>
                </a:cubicBezTo>
                <a:cubicBezTo>
                  <a:pt x="10294" y="5128"/>
                  <a:pt x="10244" y="4998"/>
                  <a:pt x="10170" y="4862"/>
                </a:cubicBezTo>
                <a:cubicBezTo>
                  <a:pt x="10084" y="4705"/>
                  <a:pt x="9985" y="4550"/>
                  <a:pt x="9847" y="4440"/>
                </a:cubicBezTo>
                <a:cubicBezTo>
                  <a:pt x="9703" y="4324"/>
                  <a:pt x="9541" y="4198"/>
                  <a:pt x="9351" y="4192"/>
                </a:cubicBezTo>
                <a:cubicBezTo>
                  <a:pt x="9194" y="4187"/>
                  <a:pt x="9030" y="4179"/>
                  <a:pt x="8880" y="4217"/>
                </a:cubicBezTo>
                <a:cubicBezTo>
                  <a:pt x="8738" y="4253"/>
                  <a:pt x="8658" y="4295"/>
                  <a:pt x="8533" y="4366"/>
                </a:cubicBezTo>
                <a:cubicBezTo>
                  <a:pt x="8429" y="4425"/>
                  <a:pt x="8297" y="4537"/>
                  <a:pt x="8260" y="4663"/>
                </a:cubicBezTo>
                <a:cubicBezTo>
                  <a:pt x="8222" y="4791"/>
                  <a:pt x="8244" y="4954"/>
                  <a:pt x="8260" y="5085"/>
                </a:cubicBezTo>
                <a:cubicBezTo>
                  <a:pt x="8280" y="5248"/>
                  <a:pt x="8289" y="5382"/>
                  <a:pt x="8359" y="5531"/>
                </a:cubicBezTo>
                <a:cubicBezTo>
                  <a:pt x="8414" y="5647"/>
                  <a:pt x="8472" y="5769"/>
                  <a:pt x="8533" y="5879"/>
                </a:cubicBezTo>
                <a:cubicBezTo>
                  <a:pt x="8549" y="5909"/>
                  <a:pt x="8565" y="5923"/>
                  <a:pt x="8582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43120" y="2705040"/>
            <a:ext cx="1197000" cy="2152800"/>
          </a:xfrm>
          <a:custGeom>
            <a:avLst/>
            <a:gdLst/>
            <a:ahLst/>
            <a:rect l="l" t="t" r="r" b="b"/>
            <a:pathLst>
              <a:path w="3325" h="5979">
                <a:moveTo>
                  <a:pt x="8830" y="8210"/>
                </a:moveTo>
                <a:cubicBezTo>
                  <a:pt x="8858" y="8162"/>
                  <a:pt x="8883" y="8106"/>
                  <a:pt x="8954" y="8086"/>
                </a:cubicBezTo>
                <a:cubicBezTo>
                  <a:pt x="9113" y="8041"/>
                  <a:pt x="9172" y="8243"/>
                  <a:pt x="9153" y="8359"/>
                </a:cubicBezTo>
                <a:cubicBezTo>
                  <a:pt x="9127" y="8516"/>
                  <a:pt x="9019" y="8660"/>
                  <a:pt x="8880" y="8706"/>
                </a:cubicBezTo>
                <a:cubicBezTo>
                  <a:pt x="8898" y="8596"/>
                  <a:pt x="8891" y="8574"/>
                  <a:pt x="9054" y="8582"/>
                </a:cubicBezTo>
                <a:cubicBezTo>
                  <a:pt x="9259" y="8592"/>
                  <a:pt x="9351" y="8825"/>
                  <a:pt x="9277" y="9004"/>
                </a:cubicBezTo>
                <a:cubicBezTo>
                  <a:pt x="9185" y="9228"/>
                  <a:pt x="8950" y="9328"/>
                  <a:pt x="8756" y="9178"/>
                </a:cubicBezTo>
                <a:cubicBezTo>
                  <a:pt x="8641" y="9089"/>
                  <a:pt x="8722" y="9115"/>
                  <a:pt x="8731" y="9054"/>
                </a:cubicBezTo>
              </a:path>
              <a:path w="3325" h="5979">
                <a:moveTo>
                  <a:pt x="9947" y="8136"/>
                </a:moveTo>
                <a:cubicBezTo>
                  <a:pt x="9805" y="8180"/>
                  <a:pt x="9741" y="8180"/>
                  <a:pt x="9599" y="8136"/>
                </a:cubicBezTo>
                <a:cubicBezTo>
                  <a:pt x="9599" y="8233"/>
                  <a:pt x="9604" y="8318"/>
                  <a:pt x="9624" y="8409"/>
                </a:cubicBezTo>
                <a:cubicBezTo>
                  <a:pt x="9624" y="8434"/>
                  <a:pt x="9624" y="8442"/>
                  <a:pt x="9624" y="8458"/>
                </a:cubicBezTo>
                <a:cubicBezTo>
                  <a:pt x="9737" y="8414"/>
                  <a:pt x="9747" y="8347"/>
                  <a:pt x="9897" y="8359"/>
                </a:cubicBezTo>
                <a:cubicBezTo>
                  <a:pt x="10068" y="8373"/>
                  <a:pt x="10178" y="8464"/>
                  <a:pt x="10170" y="8632"/>
                </a:cubicBezTo>
                <a:cubicBezTo>
                  <a:pt x="10157" y="8905"/>
                  <a:pt x="9825" y="8997"/>
                  <a:pt x="9599" y="9004"/>
                </a:cubicBezTo>
                <a:cubicBezTo>
                  <a:pt x="9484" y="8985"/>
                  <a:pt x="9468" y="8976"/>
                  <a:pt x="9401" y="8979"/>
                </a:cubicBezTo>
              </a:path>
              <a:path w="3325" h="5979">
                <a:moveTo>
                  <a:pt x="8062" y="8434"/>
                </a:moveTo>
                <a:cubicBezTo>
                  <a:pt x="8072" y="8414"/>
                  <a:pt x="8202" y="8466"/>
                  <a:pt x="8260" y="8483"/>
                </a:cubicBezTo>
                <a:cubicBezTo>
                  <a:pt x="8298" y="8494"/>
                  <a:pt x="8381" y="8498"/>
                  <a:pt x="8384" y="8533"/>
                </a:cubicBezTo>
                <a:cubicBezTo>
                  <a:pt x="8384" y="8549"/>
                  <a:pt x="8384" y="8566"/>
                  <a:pt x="8384" y="8582"/>
                </a:cubicBezTo>
              </a:path>
              <a:path w="3325" h="5979">
                <a:moveTo>
                  <a:pt x="8285" y="9401"/>
                </a:moveTo>
                <a:cubicBezTo>
                  <a:pt x="8403" y="9382"/>
                  <a:pt x="8500" y="9379"/>
                  <a:pt x="8632" y="9401"/>
                </a:cubicBezTo>
                <a:cubicBezTo>
                  <a:pt x="8865" y="9439"/>
                  <a:pt x="9091" y="9471"/>
                  <a:pt x="9327" y="9475"/>
                </a:cubicBezTo>
                <a:cubicBezTo>
                  <a:pt x="9545" y="9478"/>
                  <a:pt x="9774" y="9489"/>
                  <a:pt x="9971" y="9376"/>
                </a:cubicBezTo>
                <a:cubicBezTo>
                  <a:pt x="10131" y="9285"/>
                  <a:pt x="10304" y="9151"/>
                  <a:pt x="10443" y="9029"/>
                </a:cubicBezTo>
                <a:cubicBezTo>
                  <a:pt x="10565" y="8922"/>
                  <a:pt x="10647" y="8824"/>
                  <a:pt x="10666" y="8657"/>
                </a:cubicBezTo>
                <a:cubicBezTo>
                  <a:pt x="10687" y="8472"/>
                  <a:pt x="10607" y="8322"/>
                  <a:pt x="10492" y="8186"/>
                </a:cubicBezTo>
                <a:cubicBezTo>
                  <a:pt x="10379" y="8052"/>
                  <a:pt x="10234" y="7939"/>
                  <a:pt x="10096" y="7838"/>
                </a:cubicBezTo>
                <a:cubicBezTo>
                  <a:pt x="9949" y="7730"/>
                  <a:pt x="9823" y="7652"/>
                  <a:pt x="9649" y="7590"/>
                </a:cubicBezTo>
                <a:cubicBezTo>
                  <a:pt x="9441" y="7515"/>
                  <a:pt x="9221" y="7519"/>
                  <a:pt x="9004" y="7541"/>
                </a:cubicBezTo>
                <a:cubicBezTo>
                  <a:pt x="8800" y="7562"/>
                  <a:pt x="8594" y="7604"/>
                  <a:pt x="8409" y="7689"/>
                </a:cubicBezTo>
                <a:cubicBezTo>
                  <a:pt x="8223" y="7775"/>
                  <a:pt x="8121" y="7917"/>
                  <a:pt x="7987" y="8062"/>
                </a:cubicBezTo>
                <a:cubicBezTo>
                  <a:pt x="7866" y="8194"/>
                  <a:pt x="7708" y="8359"/>
                  <a:pt x="7714" y="8558"/>
                </a:cubicBezTo>
                <a:cubicBezTo>
                  <a:pt x="7722" y="8805"/>
                  <a:pt x="7873" y="9104"/>
                  <a:pt x="8012" y="9302"/>
                </a:cubicBezTo>
                <a:cubicBezTo>
                  <a:pt x="8078" y="9396"/>
                  <a:pt x="8218" y="9582"/>
                  <a:pt x="8334" y="9624"/>
                </a:cubicBezTo>
                <a:cubicBezTo>
                  <a:pt x="8413" y="9653"/>
                  <a:pt x="8523" y="9595"/>
                  <a:pt x="8582" y="9599"/>
                </a:cubicBezTo>
                <a:cubicBezTo>
                  <a:pt x="8615" y="9601"/>
                  <a:pt x="8624" y="9619"/>
                  <a:pt x="8657" y="9624"/>
                </a:cubicBezTo>
              </a:path>
              <a:path w="3325" h="5979">
                <a:moveTo>
                  <a:pt x="8756" y="11534"/>
                </a:moveTo>
                <a:cubicBezTo>
                  <a:pt x="8756" y="11492"/>
                  <a:pt x="8766" y="11496"/>
                  <a:pt x="8731" y="11485"/>
                </a:cubicBezTo>
                <a:cubicBezTo>
                  <a:pt x="8753" y="11613"/>
                  <a:pt x="8773" y="11749"/>
                  <a:pt x="8781" y="11881"/>
                </a:cubicBezTo>
                <a:cubicBezTo>
                  <a:pt x="8785" y="11946"/>
                  <a:pt x="8781" y="12014"/>
                  <a:pt x="8781" y="12080"/>
                </a:cubicBezTo>
              </a:path>
              <a:path w="3325" h="5979">
                <a:moveTo>
                  <a:pt x="9525" y="11286"/>
                </a:moveTo>
                <a:cubicBezTo>
                  <a:pt x="9405" y="11286"/>
                  <a:pt x="9345" y="11329"/>
                  <a:pt x="9252" y="11410"/>
                </a:cubicBezTo>
                <a:cubicBezTo>
                  <a:pt x="9146" y="11503"/>
                  <a:pt x="9073" y="11616"/>
                  <a:pt x="9227" y="11708"/>
                </a:cubicBezTo>
                <a:cubicBezTo>
                  <a:pt x="9353" y="11784"/>
                  <a:pt x="9552" y="11827"/>
                  <a:pt x="9500" y="12030"/>
                </a:cubicBezTo>
                <a:cubicBezTo>
                  <a:pt x="9477" y="12119"/>
                  <a:pt x="9430" y="12126"/>
                  <a:pt x="9376" y="12105"/>
                </a:cubicBezTo>
                <a:cubicBezTo>
                  <a:pt x="9298" y="11919"/>
                  <a:pt x="9359" y="11779"/>
                  <a:pt x="9426" y="11584"/>
                </a:cubicBezTo>
                <a:cubicBezTo>
                  <a:pt x="9433" y="11564"/>
                  <a:pt x="9554" y="11292"/>
                  <a:pt x="9426" y="11385"/>
                </a:cubicBezTo>
              </a:path>
              <a:path w="3325" h="5979">
                <a:moveTo>
                  <a:pt x="8359" y="12303"/>
                </a:moveTo>
                <a:cubicBezTo>
                  <a:pt x="8352" y="12185"/>
                  <a:pt x="8318" y="12075"/>
                  <a:pt x="8310" y="11956"/>
                </a:cubicBezTo>
                <a:cubicBezTo>
                  <a:pt x="8295" y="11737"/>
                  <a:pt x="8251" y="11529"/>
                  <a:pt x="8210" y="11311"/>
                </a:cubicBezTo>
                <a:cubicBezTo>
                  <a:pt x="8192" y="11214"/>
                  <a:pt x="8167" y="11131"/>
                  <a:pt x="8136" y="11038"/>
                </a:cubicBezTo>
                <a:cubicBezTo>
                  <a:pt x="8192" y="11024"/>
                  <a:pt x="8175" y="11019"/>
                  <a:pt x="8235" y="11013"/>
                </a:cubicBezTo>
                <a:cubicBezTo>
                  <a:pt x="8467" y="10988"/>
                  <a:pt x="8698" y="11002"/>
                  <a:pt x="8930" y="10988"/>
                </a:cubicBezTo>
                <a:cubicBezTo>
                  <a:pt x="9210" y="10971"/>
                  <a:pt x="9469" y="10977"/>
                  <a:pt x="9748" y="10988"/>
                </a:cubicBezTo>
                <a:cubicBezTo>
                  <a:pt x="9902" y="10994"/>
                  <a:pt x="10122" y="10932"/>
                  <a:pt x="10269" y="10964"/>
                </a:cubicBezTo>
                <a:cubicBezTo>
                  <a:pt x="10294" y="10964"/>
                  <a:pt x="10302" y="10964"/>
                  <a:pt x="10294" y="10988"/>
                </a:cubicBezTo>
              </a:path>
              <a:path w="3325" h="5979">
                <a:moveTo>
                  <a:pt x="7491" y="11410"/>
                </a:moveTo>
                <a:cubicBezTo>
                  <a:pt x="7436" y="11373"/>
                  <a:pt x="7433" y="11522"/>
                  <a:pt x="7417" y="11584"/>
                </a:cubicBezTo>
                <a:cubicBezTo>
                  <a:pt x="7381" y="11724"/>
                  <a:pt x="7347" y="11861"/>
                  <a:pt x="7342" y="12005"/>
                </a:cubicBezTo>
                <a:cubicBezTo>
                  <a:pt x="7339" y="12095"/>
                  <a:pt x="7372" y="12146"/>
                  <a:pt x="7466" y="12154"/>
                </a:cubicBezTo>
                <a:cubicBezTo>
                  <a:pt x="7570" y="12163"/>
                  <a:pt x="7671" y="12107"/>
                  <a:pt x="7739" y="12030"/>
                </a:cubicBezTo>
                <a:cubicBezTo>
                  <a:pt x="7773" y="11992"/>
                  <a:pt x="7808" y="11906"/>
                  <a:pt x="7813" y="11857"/>
                </a:cubicBezTo>
                <a:cubicBezTo>
                  <a:pt x="7820" y="11785"/>
                  <a:pt x="7809" y="11786"/>
                  <a:pt x="7764" y="11757"/>
                </a:cubicBezTo>
                <a:cubicBezTo>
                  <a:pt x="7735" y="11738"/>
                  <a:pt x="7661" y="11719"/>
                  <a:pt x="7640" y="11757"/>
                </a:cubicBezTo>
                <a:cubicBezTo>
                  <a:pt x="7579" y="11866"/>
                  <a:pt x="7600" y="11944"/>
                  <a:pt x="7615" y="12055"/>
                </a:cubicBezTo>
                <a:cubicBezTo>
                  <a:pt x="7627" y="12140"/>
                  <a:pt x="7621" y="12075"/>
                  <a:pt x="7640" y="12129"/>
                </a:cubicBezTo>
              </a:path>
              <a:path w="3325" h="5979">
                <a:moveTo>
                  <a:pt x="9103" y="10319"/>
                </a:moveTo>
                <a:cubicBezTo>
                  <a:pt x="9103" y="10365"/>
                  <a:pt x="9113" y="10295"/>
                  <a:pt x="9128" y="10269"/>
                </a:cubicBezTo>
                <a:cubicBezTo>
                  <a:pt x="9169" y="10199"/>
                  <a:pt x="9273" y="10146"/>
                  <a:pt x="9351" y="10195"/>
                </a:cubicBezTo>
                <a:cubicBezTo>
                  <a:pt x="9412" y="10233"/>
                  <a:pt x="9450" y="10336"/>
                  <a:pt x="9401" y="10393"/>
                </a:cubicBezTo>
                <a:cubicBezTo>
                  <a:pt x="9369" y="10431"/>
                  <a:pt x="9299" y="10443"/>
                  <a:pt x="9252" y="10443"/>
                </a:cubicBezTo>
                <a:cubicBezTo>
                  <a:pt x="9276" y="10348"/>
                  <a:pt x="9361" y="10335"/>
                  <a:pt x="9451" y="10368"/>
                </a:cubicBezTo>
                <a:cubicBezTo>
                  <a:pt x="9599" y="10422"/>
                  <a:pt x="9517" y="10566"/>
                  <a:pt x="9451" y="10641"/>
                </a:cubicBezTo>
                <a:cubicBezTo>
                  <a:pt x="9366" y="10737"/>
                  <a:pt x="9299" y="10740"/>
                  <a:pt x="9178" y="10740"/>
                </a:cubicBezTo>
                <a:cubicBezTo>
                  <a:pt x="9153" y="10740"/>
                  <a:pt x="9145" y="10740"/>
                  <a:pt x="9153" y="10716"/>
                </a:cubicBezTo>
              </a:path>
              <a:path w="3325" h="5979">
                <a:moveTo>
                  <a:pt x="8756" y="12229"/>
                </a:moveTo>
                <a:cubicBezTo>
                  <a:pt x="8812" y="12303"/>
                  <a:pt x="8825" y="12382"/>
                  <a:pt x="8830" y="12477"/>
                </a:cubicBezTo>
                <a:cubicBezTo>
                  <a:pt x="8830" y="12568"/>
                  <a:pt x="8830" y="12592"/>
                  <a:pt x="8830" y="12650"/>
                </a:cubicBezTo>
              </a:path>
              <a:path w="3325" h="5979">
                <a:moveTo>
                  <a:pt x="9426" y="12204"/>
                </a:moveTo>
                <a:cubicBezTo>
                  <a:pt x="9368" y="12248"/>
                  <a:pt x="9322" y="12286"/>
                  <a:pt x="9277" y="12353"/>
                </a:cubicBezTo>
                <a:cubicBezTo>
                  <a:pt x="9346" y="12432"/>
                  <a:pt x="9451" y="12451"/>
                  <a:pt x="9550" y="12502"/>
                </a:cubicBezTo>
                <a:cubicBezTo>
                  <a:pt x="9599" y="12526"/>
                  <a:pt x="9616" y="12535"/>
                  <a:pt x="9624" y="12576"/>
                </a:cubicBezTo>
                <a:cubicBezTo>
                  <a:pt x="9569" y="12601"/>
                  <a:pt x="9406" y="12680"/>
                  <a:pt x="9401" y="12551"/>
                </a:cubicBezTo>
                <a:cubicBezTo>
                  <a:pt x="9398" y="12468"/>
                  <a:pt x="9460" y="12382"/>
                  <a:pt x="9475" y="12303"/>
                </a:cubicBezTo>
              </a:path>
              <a:path w="3325" h="5979">
                <a:moveTo>
                  <a:pt x="8458" y="12650"/>
                </a:moveTo>
                <a:cubicBezTo>
                  <a:pt x="8533" y="12638"/>
                  <a:pt x="8604" y="12586"/>
                  <a:pt x="8682" y="12601"/>
                </a:cubicBezTo>
                <a:cubicBezTo>
                  <a:pt x="8698" y="12609"/>
                  <a:pt x="8715" y="12618"/>
                  <a:pt x="8731" y="12626"/>
                </a:cubicBezTo>
              </a:path>
              <a:path w="3325" h="5979">
                <a:moveTo>
                  <a:pt x="8806" y="12923"/>
                </a:moveTo>
                <a:cubicBezTo>
                  <a:pt x="9047" y="12875"/>
                  <a:pt x="9281" y="12835"/>
                  <a:pt x="9525" y="12799"/>
                </a:cubicBezTo>
                <a:cubicBezTo>
                  <a:pt x="9620" y="12785"/>
                  <a:pt x="9682" y="12774"/>
                  <a:pt x="9773" y="12774"/>
                </a:cubicBezTo>
              </a:path>
              <a:path w="3325" h="5979">
                <a:moveTo>
                  <a:pt x="9649" y="12998"/>
                </a:moveTo>
                <a:cubicBezTo>
                  <a:pt x="9628" y="12936"/>
                  <a:pt x="9580" y="12981"/>
                  <a:pt x="9550" y="13022"/>
                </a:cubicBezTo>
                <a:cubicBezTo>
                  <a:pt x="9482" y="13117"/>
                  <a:pt x="9418" y="13275"/>
                  <a:pt x="9451" y="13395"/>
                </a:cubicBezTo>
                <a:cubicBezTo>
                  <a:pt x="9496" y="13557"/>
                  <a:pt x="9639" y="13486"/>
                  <a:pt x="9723" y="13419"/>
                </a:cubicBezTo>
                <a:cubicBezTo>
                  <a:pt x="9815" y="13346"/>
                  <a:pt x="9878" y="13212"/>
                  <a:pt x="9823" y="13097"/>
                </a:cubicBezTo>
                <a:cubicBezTo>
                  <a:pt x="9780" y="13007"/>
                  <a:pt x="9678" y="13022"/>
                  <a:pt x="9599" y="13022"/>
                </a:cubicBezTo>
                <a:cubicBezTo>
                  <a:pt x="9571" y="13022"/>
                  <a:pt x="9561" y="13025"/>
                  <a:pt x="9550" y="13047"/>
                </a:cubicBezTo>
              </a:path>
              <a:path w="3325" h="5979">
                <a:moveTo>
                  <a:pt x="8806" y="10964"/>
                </a:moveTo>
                <a:cubicBezTo>
                  <a:pt x="8870" y="10964"/>
                  <a:pt x="8895" y="10978"/>
                  <a:pt x="8954" y="10988"/>
                </a:cubicBezTo>
                <a:cubicBezTo>
                  <a:pt x="9129" y="11016"/>
                  <a:pt x="9332" y="10985"/>
                  <a:pt x="9500" y="10964"/>
                </a:cubicBezTo>
                <a:cubicBezTo>
                  <a:pt x="9614" y="10950"/>
                  <a:pt x="9672" y="10932"/>
                  <a:pt x="9773" y="10889"/>
                </a:cubicBezTo>
                <a:cubicBezTo>
                  <a:pt x="9851" y="10856"/>
                  <a:pt x="9899" y="10813"/>
                  <a:pt x="9947" y="10765"/>
                </a:cubicBezTo>
                <a:cubicBezTo>
                  <a:pt x="10019" y="10693"/>
                  <a:pt x="10043" y="10590"/>
                  <a:pt x="10071" y="10492"/>
                </a:cubicBezTo>
                <a:cubicBezTo>
                  <a:pt x="10087" y="10437"/>
                  <a:pt x="10147" y="10293"/>
                  <a:pt x="10145" y="10244"/>
                </a:cubicBezTo>
                <a:cubicBezTo>
                  <a:pt x="10144" y="10211"/>
                  <a:pt x="10113" y="10098"/>
                  <a:pt x="10096" y="10071"/>
                </a:cubicBezTo>
                <a:cubicBezTo>
                  <a:pt x="10034" y="9974"/>
                  <a:pt x="9908" y="9955"/>
                  <a:pt x="9823" y="9897"/>
                </a:cubicBezTo>
                <a:cubicBezTo>
                  <a:pt x="9751" y="9847"/>
                  <a:pt x="9669" y="9788"/>
                  <a:pt x="9575" y="9773"/>
                </a:cubicBezTo>
                <a:cubicBezTo>
                  <a:pt x="9475" y="9758"/>
                  <a:pt x="9380" y="9748"/>
                  <a:pt x="9277" y="9748"/>
                </a:cubicBezTo>
                <a:cubicBezTo>
                  <a:pt x="9170" y="9748"/>
                  <a:pt x="9057" y="9751"/>
                  <a:pt x="8954" y="9773"/>
                </a:cubicBezTo>
                <a:cubicBezTo>
                  <a:pt x="8834" y="9799"/>
                  <a:pt x="8728" y="9844"/>
                  <a:pt x="8632" y="9922"/>
                </a:cubicBezTo>
                <a:cubicBezTo>
                  <a:pt x="8539" y="9997"/>
                  <a:pt x="8498" y="10055"/>
                  <a:pt x="8434" y="10145"/>
                </a:cubicBezTo>
                <a:cubicBezTo>
                  <a:pt x="8362" y="10246"/>
                  <a:pt x="8375" y="10322"/>
                  <a:pt x="8384" y="10443"/>
                </a:cubicBezTo>
                <a:cubicBezTo>
                  <a:pt x="8391" y="10536"/>
                  <a:pt x="8413" y="10632"/>
                  <a:pt x="8458" y="10716"/>
                </a:cubicBezTo>
                <a:cubicBezTo>
                  <a:pt x="8497" y="10789"/>
                  <a:pt x="8559" y="10826"/>
                  <a:pt x="8632" y="10864"/>
                </a:cubicBezTo>
                <a:cubicBezTo>
                  <a:pt x="8711" y="10905"/>
                  <a:pt x="8777" y="10930"/>
                  <a:pt x="8855" y="10964"/>
                </a:cubicBezTo>
                <a:cubicBezTo>
                  <a:pt x="8947" y="11004"/>
                  <a:pt x="9012" y="10991"/>
                  <a:pt x="9103" y="11013"/>
                </a:cubicBezTo>
                <a:cubicBezTo>
                  <a:pt x="9180" y="11031"/>
                  <a:pt x="9245" y="11038"/>
                  <a:pt x="9327" y="11038"/>
                </a:cubicBezTo>
                <a:cubicBezTo>
                  <a:pt x="9403" y="11038"/>
                  <a:pt x="9478" y="11030"/>
                  <a:pt x="9550" y="11013"/>
                </a:cubicBezTo>
                <a:cubicBezTo>
                  <a:pt x="9636" y="10993"/>
                  <a:pt x="9714" y="10932"/>
                  <a:pt x="9798" y="10914"/>
                </a:cubicBezTo>
                <a:cubicBezTo>
                  <a:pt x="9851" y="10903"/>
                  <a:pt x="9866" y="10914"/>
                  <a:pt x="9922" y="10889"/>
                </a:cubicBezTo>
                <a:cubicBezTo>
                  <a:pt x="9950" y="10876"/>
                  <a:pt x="9991" y="10849"/>
                  <a:pt x="10021" y="10840"/>
                </a:cubicBezTo>
                <a:cubicBezTo>
                  <a:pt x="10029" y="10840"/>
                  <a:pt x="10038" y="10840"/>
                  <a:pt x="10046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30840" y="1276200"/>
            <a:ext cx="3295440" cy="1760760"/>
          </a:xfrm>
          <a:custGeom>
            <a:avLst/>
            <a:gdLst/>
            <a:ahLst/>
            <a:rect l="l" t="t" r="r" b="b"/>
            <a:pathLst>
              <a:path w="9154" h="4888">
                <a:moveTo>
                  <a:pt x="13543" y="6152"/>
                </a:moveTo>
                <a:cubicBezTo>
                  <a:pt x="13515" y="6265"/>
                  <a:pt x="13472" y="6336"/>
                  <a:pt x="13444" y="6449"/>
                </a:cubicBezTo>
                <a:cubicBezTo>
                  <a:pt x="13403" y="6615"/>
                  <a:pt x="13379" y="6842"/>
                  <a:pt x="13519" y="6970"/>
                </a:cubicBezTo>
                <a:cubicBezTo>
                  <a:pt x="13657" y="7096"/>
                  <a:pt x="13864" y="7095"/>
                  <a:pt x="14015" y="6995"/>
                </a:cubicBezTo>
                <a:cubicBezTo>
                  <a:pt x="14123" y="6923"/>
                  <a:pt x="14106" y="6875"/>
                  <a:pt x="14089" y="6772"/>
                </a:cubicBezTo>
                <a:cubicBezTo>
                  <a:pt x="13935" y="6750"/>
                  <a:pt x="13790" y="6776"/>
                  <a:pt x="13717" y="6945"/>
                </a:cubicBezTo>
                <a:cubicBezTo>
                  <a:pt x="13692" y="7003"/>
                  <a:pt x="13722" y="7098"/>
                  <a:pt x="13742" y="7144"/>
                </a:cubicBezTo>
              </a:path>
              <a:path w="9154" h="4888">
                <a:moveTo>
                  <a:pt x="14759" y="5854"/>
                </a:moveTo>
                <a:cubicBezTo>
                  <a:pt x="14712" y="6115"/>
                  <a:pt x="14574" y="6375"/>
                  <a:pt x="14560" y="6648"/>
                </a:cubicBezTo>
                <a:cubicBezTo>
                  <a:pt x="14551" y="6813"/>
                  <a:pt x="14668" y="7035"/>
                  <a:pt x="14833" y="7094"/>
                </a:cubicBezTo>
                <a:cubicBezTo>
                  <a:pt x="14909" y="7094"/>
                  <a:pt x="14935" y="7094"/>
                  <a:pt x="14982" y="7069"/>
                </a:cubicBezTo>
              </a:path>
              <a:path w="9154" h="4888">
                <a:moveTo>
                  <a:pt x="15429" y="6276"/>
                </a:moveTo>
                <a:cubicBezTo>
                  <a:pt x="15306" y="6349"/>
                  <a:pt x="15179" y="6399"/>
                  <a:pt x="15280" y="6548"/>
                </a:cubicBezTo>
                <a:cubicBezTo>
                  <a:pt x="15357" y="6662"/>
                  <a:pt x="15579" y="6788"/>
                  <a:pt x="15503" y="6945"/>
                </a:cubicBezTo>
                <a:cubicBezTo>
                  <a:pt x="15486" y="6962"/>
                  <a:pt x="15470" y="6978"/>
                  <a:pt x="15453" y="6995"/>
                </a:cubicBezTo>
                <a:cubicBezTo>
                  <a:pt x="15286" y="6919"/>
                  <a:pt x="15304" y="6820"/>
                  <a:pt x="15379" y="6648"/>
                </a:cubicBezTo>
                <a:cubicBezTo>
                  <a:pt x="15417" y="6561"/>
                  <a:pt x="15547" y="6415"/>
                  <a:pt x="15503" y="6350"/>
                </a:cubicBezTo>
              </a:path>
              <a:path w="9154" h="4888">
                <a:moveTo>
                  <a:pt x="15776" y="5804"/>
                </a:moveTo>
                <a:cubicBezTo>
                  <a:pt x="15950" y="6011"/>
                  <a:pt x="16143" y="6359"/>
                  <a:pt x="16173" y="6648"/>
                </a:cubicBezTo>
                <a:cubicBezTo>
                  <a:pt x="16194" y="6846"/>
                  <a:pt x="16103" y="7115"/>
                  <a:pt x="15900" y="7193"/>
                </a:cubicBezTo>
                <a:cubicBezTo>
                  <a:pt x="15892" y="7185"/>
                  <a:pt x="15883" y="7177"/>
                  <a:pt x="15875" y="7169"/>
                </a:cubicBezTo>
              </a:path>
              <a:path w="9154" h="4888">
                <a:moveTo>
                  <a:pt x="16594" y="6028"/>
                </a:moveTo>
                <a:cubicBezTo>
                  <a:pt x="16454" y="6192"/>
                  <a:pt x="16335" y="6399"/>
                  <a:pt x="16321" y="6623"/>
                </a:cubicBezTo>
                <a:cubicBezTo>
                  <a:pt x="16311" y="6784"/>
                  <a:pt x="16426" y="6989"/>
                  <a:pt x="16545" y="7094"/>
                </a:cubicBezTo>
                <a:cubicBezTo>
                  <a:pt x="16615" y="7141"/>
                  <a:pt x="16635" y="7158"/>
                  <a:pt x="16694" y="7144"/>
                </a:cubicBezTo>
              </a:path>
              <a:path w="9154" h="4888">
                <a:moveTo>
                  <a:pt x="16917" y="6424"/>
                </a:moveTo>
                <a:cubicBezTo>
                  <a:pt x="17001" y="6375"/>
                  <a:pt x="17114" y="6365"/>
                  <a:pt x="17214" y="6400"/>
                </a:cubicBezTo>
                <a:cubicBezTo>
                  <a:pt x="17419" y="6471"/>
                  <a:pt x="17232" y="6571"/>
                  <a:pt x="17140" y="6623"/>
                </a:cubicBezTo>
                <a:cubicBezTo>
                  <a:pt x="17123" y="6631"/>
                  <a:pt x="17107" y="6640"/>
                  <a:pt x="17090" y="6648"/>
                </a:cubicBezTo>
                <a:cubicBezTo>
                  <a:pt x="17255" y="6648"/>
                  <a:pt x="17310" y="6656"/>
                  <a:pt x="17438" y="6747"/>
                </a:cubicBezTo>
                <a:cubicBezTo>
                  <a:pt x="17376" y="6895"/>
                  <a:pt x="17297" y="6977"/>
                  <a:pt x="17115" y="6945"/>
                </a:cubicBezTo>
                <a:cubicBezTo>
                  <a:pt x="16991" y="6896"/>
                  <a:pt x="16950" y="6880"/>
                  <a:pt x="16942" y="6772"/>
                </a:cubicBezTo>
              </a:path>
              <a:path w="9154" h="4888">
                <a:moveTo>
                  <a:pt x="17587" y="5779"/>
                </a:moveTo>
                <a:cubicBezTo>
                  <a:pt x="17784" y="6016"/>
                  <a:pt x="18071" y="6279"/>
                  <a:pt x="18033" y="6623"/>
                </a:cubicBezTo>
                <a:cubicBezTo>
                  <a:pt x="18005" y="6873"/>
                  <a:pt x="17763" y="6984"/>
                  <a:pt x="17562" y="7045"/>
                </a:cubicBezTo>
              </a:path>
              <a:path w="9154" h="4888">
                <a:moveTo>
                  <a:pt x="14808" y="6623"/>
                </a:moveTo>
                <a:cubicBezTo>
                  <a:pt x="14875" y="6623"/>
                  <a:pt x="14926" y="6626"/>
                  <a:pt x="14982" y="6598"/>
                </a:cubicBezTo>
              </a:path>
              <a:path w="9154" h="4888">
                <a:moveTo>
                  <a:pt x="13915" y="7268"/>
                </a:moveTo>
                <a:cubicBezTo>
                  <a:pt x="13986" y="7318"/>
                  <a:pt x="13968" y="7321"/>
                  <a:pt x="13990" y="7417"/>
                </a:cubicBezTo>
                <a:cubicBezTo>
                  <a:pt x="14016" y="7529"/>
                  <a:pt x="14013" y="7528"/>
                  <a:pt x="14139" y="7516"/>
                </a:cubicBezTo>
                <a:cubicBezTo>
                  <a:pt x="14441" y="7488"/>
                  <a:pt x="14727" y="7466"/>
                  <a:pt x="15032" y="7466"/>
                </a:cubicBezTo>
                <a:cubicBezTo>
                  <a:pt x="15156" y="7466"/>
                  <a:pt x="15216" y="7475"/>
                  <a:pt x="15329" y="7491"/>
                </a:cubicBezTo>
                <a:cubicBezTo>
                  <a:pt x="15329" y="7394"/>
                  <a:pt x="15334" y="7308"/>
                  <a:pt x="15304" y="7218"/>
                </a:cubicBezTo>
              </a:path>
              <a:path w="9154" h="4888">
                <a:moveTo>
                  <a:pt x="14163" y="7938"/>
                </a:moveTo>
                <a:cubicBezTo>
                  <a:pt x="14163" y="8027"/>
                  <a:pt x="14138" y="8087"/>
                  <a:pt x="14089" y="8161"/>
                </a:cubicBezTo>
                <a:cubicBezTo>
                  <a:pt x="14081" y="8169"/>
                  <a:pt x="14072" y="8178"/>
                  <a:pt x="14064" y="8186"/>
                </a:cubicBezTo>
                <a:cubicBezTo>
                  <a:pt x="14209" y="8186"/>
                  <a:pt x="14370" y="8188"/>
                  <a:pt x="14511" y="8161"/>
                </a:cubicBezTo>
                <a:cubicBezTo>
                  <a:pt x="14527" y="8153"/>
                  <a:pt x="14544" y="8144"/>
                  <a:pt x="14560" y="8136"/>
                </a:cubicBezTo>
              </a:path>
              <a:path w="9154" h="4888">
                <a:moveTo>
                  <a:pt x="14511" y="7789"/>
                </a:moveTo>
                <a:cubicBezTo>
                  <a:pt x="14511" y="7953"/>
                  <a:pt x="14553" y="8097"/>
                  <a:pt x="14560" y="8260"/>
                </a:cubicBezTo>
                <a:cubicBezTo>
                  <a:pt x="14560" y="8351"/>
                  <a:pt x="14560" y="8376"/>
                  <a:pt x="14560" y="8434"/>
                </a:cubicBezTo>
              </a:path>
              <a:path w="9154" h="4888">
                <a:moveTo>
                  <a:pt x="15007" y="7789"/>
                </a:moveTo>
                <a:cubicBezTo>
                  <a:pt x="14906" y="7822"/>
                  <a:pt x="14774" y="7846"/>
                  <a:pt x="14734" y="7962"/>
                </a:cubicBezTo>
                <a:cubicBezTo>
                  <a:pt x="14674" y="8135"/>
                  <a:pt x="14967" y="8197"/>
                  <a:pt x="15056" y="8260"/>
                </a:cubicBezTo>
                <a:cubicBezTo>
                  <a:pt x="15114" y="8318"/>
                  <a:pt x="15123" y="8326"/>
                  <a:pt x="15156" y="8359"/>
                </a:cubicBezTo>
                <a:cubicBezTo>
                  <a:pt x="15083" y="8403"/>
                  <a:pt x="14884" y="8469"/>
                  <a:pt x="14858" y="8310"/>
                </a:cubicBezTo>
                <a:cubicBezTo>
                  <a:pt x="14831" y="8150"/>
                  <a:pt x="15015" y="8043"/>
                  <a:pt x="15056" y="7913"/>
                </a:cubicBezTo>
                <a:cubicBezTo>
                  <a:pt x="15048" y="7913"/>
                  <a:pt x="15040" y="7913"/>
                  <a:pt x="15032" y="7913"/>
                </a:cubicBezTo>
              </a:path>
              <a:path w="9154" h="4888">
                <a:moveTo>
                  <a:pt x="15553" y="8384"/>
                </a:moveTo>
                <a:cubicBezTo>
                  <a:pt x="15694" y="8302"/>
                  <a:pt x="15837" y="8322"/>
                  <a:pt x="15999" y="8310"/>
                </a:cubicBezTo>
                <a:cubicBezTo>
                  <a:pt x="16290" y="8288"/>
                  <a:pt x="16600" y="8208"/>
                  <a:pt x="16892" y="8235"/>
                </a:cubicBezTo>
                <a:cubicBezTo>
                  <a:pt x="16949" y="8254"/>
                  <a:pt x="16956" y="8263"/>
                  <a:pt x="16991" y="8260"/>
                </a:cubicBezTo>
                <a:cubicBezTo>
                  <a:pt x="17000" y="8183"/>
                  <a:pt x="17014" y="8117"/>
                  <a:pt x="17016" y="8037"/>
                </a:cubicBezTo>
                <a:cubicBezTo>
                  <a:pt x="17019" y="7902"/>
                  <a:pt x="17045" y="7759"/>
                  <a:pt x="17066" y="7640"/>
                </a:cubicBezTo>
                <a:cubicBezTo>
                  <a:pt x="17066" y="7615"/>
                  <a:pt x="17066" y="7607"/>
                  <a:pt x="17066" y="7590"/>
                </a:cubicBezTo>
              </a:path>
              <a:path w="9154" h="4888">
                <a:moveTo>
                  <a:pt x="20588" y="4440"/>
                </a:moveTo>
                <a:cubicBezTo>
                  <a:pt x="20537" y="4537"/>
                  <a:pt x="20465" y="4731"/>
                  <a:pt x="20389" y="4787"/>
                </a:cubicBezTo>
                <a:cubicBezTo>
                  <a:pt x="20510" y="4787"/>
                  <a:pt x="20618" y="4788"/>
                  <a:pt x="20737" y="4812"/>
                </a:cubicBezTo>
                <a:cubicBezTo>
                  <a:pt x="20877" y="4840"/>
                  <a:pt x="20861" y="4864"/>
                  <a:pt x="20985" y="4812"/>
                </a:cubicBezTo>
              </a:path>
              <a:path w="9154" h="4888">
                <a:moveTo>
                  <a:pt x="20935" y="4291"/>
                </a:moveTo>
                <a:cubicBezTo>
                  <a:pt x="20914" y="4567"/>
                  <a:pt x="20894" y="4836"/>
                  <a:pt x="20861" y="5110"/>
                </a:cubicBezTo>
                <a:cubicBezTo>
                  <a:pt x="20861" y="5126"/>
                  <a:pt x="20861" y="5143"/>
                  <a:pt x="20861" y="5159"/>
                </a:cubicBezTo>
              </a:path>
              <a:path w="9154" h="4888">
                <a:moveTo>
                  <a:pt x="21481" y="4390"/>
                </a:moveTo>
                <a:cubicBezTo>
                  <a:pt x="21318" y="4449"/>
                  <a:pt x="21082" y="4502"/>
                  <a:pt x="21183" y="4738"/>
                </a:cubicBezTo>
                <a:cubicBezTo>
                  <a:pt x="21228" y="4844"/>
                  <a:pt x="21473" y="5053"/>
                  <a:pt x="21382" y="5184"/>
                </a:cubicBezTo>
                <a:cubicBezTo>
                  <a:pt x="21311" y="5231"/>
                  <a:pt x="21292" y="5248"/>
                  <a:pt x="21233" y="5234"/>
                </a:cubicBezTo>
                <a:cubicBezTo>
                  <a:pt x="21163" y="5053"/>
                  <a:pt x="21251" y="4846"/>
                  <a:pt x="21357" y="4663"/>
                </a:cubicBezTo>
                <a:cubicBezTo>
                  <a:pt x="21396" y="4624"/>
                  <a:pt x="21412" y="4623"/>
                  <a:pt x="21406" y="4589"/>
                </a:cubicBezTo>
              </a:path>
              <a:path w="9154" h="4888">
                <a:moveTo>
                  <a:pt x="21183" y="5829"/>
                </a:moveTo>
                <a:cubicBezTo>
                  <a:pt x="21183" y="5759"/>
                  <a:pt x="21174" y="5773"/>
                  <a:pt x="21233" y="5730"/>
                </a:cubicBezTo>
                <a:cubicBezTo>
                  <a:pt x="21335" y="5655"/>
                  <a:pt x="21445" y="5594"/>
                  <a:pt x="21555" y="5606"/>
                </a:cubicBezTo>
                <a:cubicBezTo>
                  <a:pt x="21534" y="5745"/>
                  <a:pt x="21476" y="5866"/>
                  <a:pt x="21332" y="5928"/>
                </a:cubicBezTo>
                <a:cubicBezTo>
                  <a:pt x="21315" y="5928"/>
                  <a:pt x="21299" y="5928"/>
                  <a:pt x="21282" y="5928"/>
                </a:cubicBezTo>
                <a:cubicBezTo>
                  <a:pt x="21359" y="5928"/>
                  <a:pt x="21461" y="5911"/>
                  <a:pt x="21530" y="5953"/>
                </a:cubicBezTo>
                <a:cubicBezTo>
                  <a:pt x="21597" y="6020"/>
                  <a:pt x="21622" y="6035"/>
                  <a:pt x="21605" y="6102"/>
                </a:cubicBezTo>
                <a:cubicBezTo>
                  <a:pt x="21435" y="6206"/>
                  <a:pt x="21325" y="6271"/>
                  <a:pt x="21134" y="6176"/>
                </a:cubicBezTo>
                <a:cubicBezTo>
                  <a:pt x="21126" y="6168"/>
                  <a:pt x="21117" y="6160"/>
                  <a:pt x="21109" y="6152"/>
                </a:cubicBezTo>
              </a:path>
              <a:path w="9154" h="4888">
                <a:moveTo>
                  <a:pt x="19670" y="6697"/>
                </a:moveTo>
                <a:cubicBezTo>
                  <a:pt x="20038" y="6633"/>
                  <a:pt x="20412" y="6645"/>
                  <a:pt x="20786" y="6623"/>
                </a:cubicBezTo>
                <a:cubicBezTo>
                  <a:pt x="21108" y="6604"/>
                  <a:pt x="21409" y="6604"/>
                  <a:pt x="21729" y="6623"/>
                </a:cubicBezTo>
              </a:path>
              <a:path w="9154" h="4888">
                <a:moveTo>
                  <a:pt x="19968" y="5730"/>
                </a:moveTo>
                <a:cubicBezTo>
                  <a:pt x="20063" y="5865"/>
                  <a:pt x="20148" y="5990"/>
                  <a:pt x="20191" y="6152"/>
                </a:cubicBezTo>
                <a:cubicBezTo>
                  <a:pt x="20191" y="6160"/>
                  <a:pt x="20191" y="6168"/>
                  <a:pt x="20191" y="6176"/>
                </a:cubicBezTo>
              </a:path>
              <a:path w="9154" h="4888">
                <a:moveTo>
                  <a:pt x="20141" y="5606"/>
                </a:moveTo>
                <a:cubicBezTo>
                  <a:pt x="20047" y="5810"/>
                  <a:pt x="19955" y="6012"/>
                  <a:pt x="19893" y="6226"/>
                </a:cubicBezTo>
              </a:path>
              <a:path w="9154" h="4888">
                <a:moveTo>
                  <a:pt x="21506" y="6970"/>
                </a:moveTo>
                <a:cubicBezTo>
                  <a:pt x="21506" y="6945"/>
                  <a:pt x="21506" y="6937"/>
                  <a:pt x="21506" y="6921"/>
                </a:cubicBezTo>
                <a:cubicBezTo>
                  <a:pt x="21478" y="6989"/>
                  <a:pt x="21401" y="7081"/>
                  <a:pt x="21406" y="7169"/>
                </a:cubicBezTo>
                <a:cubicBezTo>
                  <a:pt x="21412" y="7277"/>
                  <a:pt x="21688" y="7220"/>
                  <a:pt x="21729" y="7218"/>
                </a:cubicBezTo>
                <a:cubicBezTo>
                  <a:pt x="21814" y="7218"/>
                  <a:pt x="21834" y="7224"/>
                  <a:pt x="21878" y="7193"/>
                </a:cubicBezTo>
              </a:path>
              <a:path w="9154" h="4888">
                <a:moveTo>
                  <a:pt x="21952" y="6772"/>
                </a:moveTo>
                <a:cubicBezTo>
                  <a:pt x="21927" y="6960"/>
                  <a:pt x="21867" y="7148"/>
                  <a:pt x="21853" y="7342"/>
                </a:cubicBezTo>
                <a:cubicBezTo>
                  <a:pt x="21846" y="7446"/>
                  <a:pt x="21830" y="7740"/>
                  <a:pt x="21803" y="7640"/>
                </a:cubicBezTo>
                <a:cubicBezTo>
                  <a:pt x="21803" y="7615"/>
                  <a:pt x="21803" y="7590"/>
                  <a:pt x="21803" y="7565"/>
                </a:cubicBezTo>
              </a:path>
              <a:path w="9154" h="4888">
                <a:moveTo>
                  <a:pt x="20414" y="3572"/>
                </a:moveTo>
                <a:cubicBezTo>
                  <a:pt x="20398" y="3580"/>
                  <a:pt x="20381" y="3589"/>
                  <a:pt x="20365" y="3597"/>
                </a:cubicBezTo>
                <a:cubicBezTo>
                  <a:pt x="20309" y="3677"/>
                  <a:pt x="20447" y="3549"/>
                  <a:pt x="20464" y="3547"/>
                </a:cubicBezTo>
                <a:cubicBezTo>
                  <a:pt x="20621" y="3531"/>
                  <a:pt x="20564" y="3838"/>
                  <a:pt x="20513" y="3894"/>
                </a:cubicBezTo>
                <a:cubicBezTo>
                  <a:pt x="20403" y="4015"/>
                  <a:pt x="20286" y="4047"/>
                  <a:pt x="20141" y="4068"/>
                </a:cubicBezTo>
                <a:cubicBezTo>
                  <a:pt x="20128" y="3955"/>
                  <a:pt x="20231" y="3891"/>
                  <a:pt x="20365" y="3919"/>
                </a:cubicBezTo>
                <a:cubicBezTo>
                  <a:pt x="20431" y="3933"/>
                  <a:pt x="20610" y="4000"/>
                  <a:pt x="20588" y="4093"/>
                </a:cubicBezTo>
                <a:cubicBezTo>
                  <a:pt x="20580" y="4109"/>
                  <a:pt x="20571" y="4126"/>
                  <a:pt x="20563" y="4142"/>
                </a:cubicBezTo>
              </a:path>
              <a:path w="9154" h="4888">
                <a:moveTo>
                  <a:pt x="20017" y="7169"/>
                </a:moveTo>
                <a:cubicBezTo>
                  <a:pt x="20017" y="7053"/>
                  <a:pt x="20036" y="7350"/>
                  <a:pt x="20042" y="7466"/>
                </a:cubicBezTo>
                <a:cubicBezTo>
                  <a:pt x="20045" y="7519"/>
                  <a:pt x="20067" y="7825"/>
                  <a:pt x="20067" y="7789"/>
                </a:cubicBezTo>
              </a:path>
              <a:path w="9154" h="4888">
                <a:moveTo>
                  <a:pt x="20365" y="7094"/>
                </a:moveTo>
                <a:cubicBezTo>
                  <a:pt x="20365" y="7146"/>
                  <a:pt x="20331" y="7331"/>
                  <a:pt x="20389" y="7367"/>
                </a:cubicBezTo>
                <a:cubicBezTo>
                  <a:pt x="20457" y="7409"/>
                  <a:pt x="20695" y="7293"/>
                  <a:pt x="20762" y="7268"/>
                </a:cubicBezTo>
                <a:cubicBezTo>
                  <a:pt x="20805" y="7246"/>
                  <a:pt x="20817" y="7233"/>
                  <a:pt x="20836" y="7268"/>
                </a:cubicBezTo>
              </a:path>
              <a:path w="9154" h="4888">
                <a:moveTo>
                  <a:pt x="20786" y="6921"/>
                </a:moveTo>
                <a:cubicBezTo>
                  <a:pt x="20786" y="6838"/>
                  <a:pt x="20778" y="7037"/>
                  <a:pt x="20786" y="7119"/>
                </a:cubicBezTo>
                <a:cubicBezTo>
                  <a:pt x="20803" y="7302"/>
                  <a:pt x="20811" y="7484"/>
                  <a:pt x="20836" y="7665"/>
                </a:cubicBezTo>
                <a:cubicBezTo>
                  <a:pt x="20836" y="7689"/>
                  <a:pt x="20836" y="7698"/>
                  <a:pt x="20836" y="7714"/>
                </a:cubicBezTo>
              </a:path>
              <a:path w="9154" h="4888">
                <a:moveTo>
                  <a:pt x="19124" y="7441"/>
                </a:moveTo>
                <a:cubicBezTo>
                  <a:pt x="19222" y="7425"/>
                  <a:pt x="19323" y="7402"/>
                  <a:pt x="19422" y="7392"/>
                </a:cubicBezTo>
                <a:cubicBezTo>
                  <a:pt x="19485" y="7386"/>
                  <a:pt x="19535" y="7367"/>
                  <a:pt x="19596" y="7367"/>
                </a:cubicBezTo>
              </a:path>
              <a:path w="9154" h="4888">
                <a:moveTo>
                  <a:pt x="19348" y="8334"/>
                </a:moveTo>
                <a:cubicBezTo>
                  <a:pt x="19580" y="8323"/>
                  <a:pt x="19808" y="8310"/>
                  <a:pt x="20042" y="8310"/>
                </a:cubicBezTo>
                <a:cubicBezTo>
                  <a:pt x="20331" y="8310"/>
                  <a:pt x="20623" y="8292"/>
                  <a:pt x="20910" y="8260"/>
                </a:cubicBezTo>
                <a:cubicBezTo>
                  <a:pt x="21173" y="8231"/>
                  <a:pt x="21407" y="8150"/>
                  <a:pt x="21654" y="8062"/>
                </a:cubicBezTo>
                <a:cubicBezTo>
                  <a:pt x="21839" y="7996"/>
                  <a:pt x="22015" y="7925"/>
                  <a:pt x="22175" y="7813"/>
                </a:cubicBezTo>
                <a:cubicBezTo>
                  <a:pt x="22273" y="7744"/>
                  <a:pt x="22376" y="7631"/>
                  <a:pt x="22423" y="7516"/>
                </a:cubicBezTo>
                <a:cubicBezTo>
                  <a:pt x="22466" y="7409"/>
                  <a:pt x="22512" y="7305"/>
                  <a:pt x="22547" y="7193"/>
                </a:cubicBezTo>
                <a:cubicBezTo>
                  <a:pt x="22567" y="7131"/>
                  <a:pt x="22577" y="7087"/>
                  <a:pt x="22572" y="7020"/>
                </a:cubicBezTo>
                <a:cubicBezTo>
                  <a:pt x="22566" y="6942"/>
                  <a:pt x="22520" y="6880"/>
                  <a:pt x="22473" y="6821"/>
                </a:cubicBezTo>
                <a:cubicBezTo>
                  <a:pt x="22393" y="6721"/>
                  <a:pt x="22296" y="6661"/>
                  <a:pt x="22175" y="6623"/>
                </a:cubicBezTo>
                <a:cubicBezTo>
                  <a:pt x="22091" y="6596"/>
                  <a:pt x="21990" y="6562"/>
                  <a:pt x="21903" y="6548"/>
                </a:cubicBezTo>
                <a:cubicBezTo>
                  <a:pt x="21766" y="6526"/>
                  <a:pt x="21614" y="6553"/>
                  <a:pt x="21481" y="6573"/>
                </a:cubicBezTo>
                <a:cubicBezTo>
                  <a:pt x="21349" y="6593"/>
                  <a:pt x="21219" y="6598"/>
                  <a:pt x="21084" y="6598"/>
                </a:cubicBezTo>
                <a:cubicBezTo>
                  <a:pt x="20935" y="6598"/>
                  <a:pt x="20784" y="6603"/>
                  <a:pt x="20638" y="6623"/>
                </a:cubicBezTo>
                <a:cubicBezTo>
                  <a:pt x="20473" y="6645"/>
                  <a:pt x="20303" y="6664"/>
                  <a:pt x="20141" y="6697"/>
                </a:cubicBezTo>
                <a:cubicBezTo>
                  <a:pt x="20001" y="6725"/>
                  <a:pt x="19874" y="6800"/>
                  <a:pt x="19745" y="6846"/>
                </a:cubicBezTo>
                <a:cubicBezTo>
                  <a:pt x="19610" y="6894"/>
                  <a:pt x="19498" y="6952"/>
                  <a:pt x="19372" y="7020"/>
                </a:cubicBezTo>
                <a:cubicBezTo>
                  <a:pt x="19256" y="7083"/>
                  <a:pt x="19176" y="7159"/>
                  <a:pt x="19100" y="7268"/>
                </a:cubicBezTo>
                <a:cubicBezTo>
                  <a:pt x="19033" y="7363"/>
                  <a:pt x="19012" y="7423"/>
                  <a:pt x="19000" y="7541"/>
                </a:cubicBezTo>
                <a:cubicBezTo>
                  <a:pt x="18989" y="7643"/>
                  <a:pt x="18996" y="7742"/>
                  <a:pt x="19025" y="7838"/>
                </a:cubicBezTo>
                <a:cubicBezTo>
                  <a:pt x="19049" y="7919"/>
                  <a:pt x="19087" y="7980"/>
                  <a:pt x="19149" y="8037"/>
                </a:cubicBezTo>
                <a:cubicBezTo>
                  <a:pt x="19208" y="8091"/>
                  <a:pt x="19298" y="8135"/>
                  <a:pt x="19372" y="8161"/>
                </a:cubicBezTo>
                <a:cubicBezTo>
                  <a:pt x="19457" y="8191"/>
                  <a:pt x="19555" y="8212"/>
                  <a:pt x="19645" y="8210"/>
                </a:cubicBezTo>
                <a:cubicBezTo>
                  <a:pt x="19740" y="8208"/>
                  <a:pt x="19846" y="8170"/>
                  <a:pt x="19943" y="8161"/>
                </a:cubicBezTo>
                <a:cubicBezTo>
                  <a:pt x="20024" y="8154"/>
                  <a:pt x="20110" y="8161"/>
                  <a:pt x="20191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0920" y="4205160"/>
            <a:ext cx="1411200" cy="1403640"/>
          </a:xfrm>
          <a:custGeom>
            <a:avLst/>
            <a:gdLst/>
            <a:ahLst/>
            <a:rect l="l" t="t" r="r" b="b"/>
            <a:pathLst>
              <a:path w="3920" h="3895">
                <a:moveTo>
                  <a:pt x="11633" y="14312"/>
                </a:moveTo>
                <a:cubicBezTo>
                  <a:pt x="11585" y="14288"/>
                  <a:pt x="11700" y="14272"/>
                  <a:pt x="11733" y="14263"/>
                </a:cubicBezTo>
                <a:cubicBezTo>
                  <a:pt x="11811" y="14242"/>
                  <a:pt x="12002" y="14138"/>
                  <a:pt x="12005" y="14288"/>
                </a:cubicBezTo>
                <a:cubicBezTo>
                  <a:pt x="12010" y="14525"/>
                  <a:pt x="11896" y="14748"/>
                  <a:pt x="11881" y="14982"/>
                </a:cubicBezTo>
                <a:cubicBezTo>
                  <a:pt x="11881" y="15034"/>
                  <a:pt x="11882" y="15049"/>
                  <a:pt x="11906" y="14982"/>
                </a:cubicBezTo>
              </a:path>
              <a:path w="3920" h="3895">
                <a:moveTo>
                  <a:pt x="12278" y="14188"/>
                </a:moveTo>
                <a:cubicBezTo>
                  <a:pt x="12336" y="14121"/>
                  <a:pt x="12451" y="14046"/>
                  <a:pt x="12551" y="14114"/>
                </a:cubicBezTo>
                <a:cubicBezTo>
                  <a:pt x="12720" y="14228"/>
                  <a:pt x="12506" y="14545"/>
                  <a:pt x="12452" y="14660"/>
                </a:cubicBezTo>
                <a:cubicBezTo>
                  <a:pt x="12400" y="14770"/>
                  <a:pt x="12366" y="14821"/>
                  <a:pt x="12353" y="14932"/>
                </a:cubicBezTo>
                <a:cubicBezTo>
                  <a:pt x="12503" y="14919"/>
                  <a:pt x="12593" y="14864"/>
                  <a:pt x="12725" y="14808"/>
                </a:cubicBezTo>
                <a:cubicBezTo>
                  <a:pt x="12760" y="14808"/>
                  <a:pt x="12764" y="14817"/>
                  <a:pt x="12725" y="14858"/>
                </a:cubicBezTo>
              </a:path>
              <a:path w="3920" h="3895">
                <a:moveTo>
                  <a:pt x="10815" y="15577"/>
                </a:moveTo>
                <a:cubicBezTo>
                  <a:pt x="10826" y="15512"/>
                  <a:pt x="10847" y="15446"/>
                  <a:pt x="10840" y="15379"/>
                </a:cubicBezTo>
                <a:cubicBezTo>
                  <a:pt x="10816" y="15160"/>
                  <a:pt x="10746" y="14946"/>
                  <a:pt x="10691" y="14734"/>
                </a:cubicBezTo>
                <a:cubicBezTo>
                  <a:pt x="10660" y="14615"/>
                  <a:pt x="10561" y="14279"/>
                  <a:pt x="10641" y="14163"/>
                </a:cubicBezTo>
                <a:cubicBezTo>
                  <a:pt x="10670" y="14121"/>
                  <a:pt x="10746" y="14105"/>
                  <a:pt x="10815" y="14089"/>
                </a:cubicBezTo>
                <a:cubicBezTo>
                  <a:pt x="11059" y="14034"/>
                  <a:pt x="11294" y="13957"/>
                  <a:pt x="11534" y="13891"/>
                </a:cubicBezTo>
                <a:cubicBezTo>
                  <a:pt x="11999" y="13763"/>
                  <a:pt x="12444" y="13742"/>
                  <a:pt x="12923" y="13742"/>
                </a:cubicBezTo>
                <a:cubicBezTo>
                  <a:pt x="13022" y="13742"/>
                  <a:pt x="13122" y="13742"/>
                  <a:pt x="13221" y="13742"/>
                </a:cubicBezTo>
              </a:path>
              <a:path w="3920" h="3895">
                <a:moveTo>
                  <a:pt x="10195" y="14660"/>
                </a:moveTo>
                <a:cubicBezTo>
                  <a:pt x="10212" y="14573"/>
                  <a:pt x="10239" y="14532"/>
                  <a:pt x="10195" y="14436"/>
                </a:cubicBezTo>
                <a:cubicBezTo>
                  <a:pt x="10144" y="14323"/>
                  <a:pt x="9989" y="14263"/>
                  <a:pt x="9872" y="14312"/>
                </a:cubicBezTo>
                <a:cubicBezTo>
                  <a:pt x="9679" y="14393"/>
                  <a:pt x="9696" y="14573"/>
                  <a:pt x="9748" y="14734"/>
                </a:cubicBezTo>
                <a:cubicBezTo>
                  <a:pt x="9756" y="14751"/>
                  <a:pt x="9765" y="14767"/>
                  <a:pt x="9773" y="14784"/>
                </a:cubicBezTo>
                <a:cubicBezTo>
                  <a:pt x="9901" y="14754"/>
                  <a:pt x="10012" y="14685"/>
                  <a:pt x="10046" y="14536"/>
                </a:cubicBezTo>
                <a:cubicBezTo>
                  <a:pt x="10046" y="14461"/>
                  <a:pt x="10021" y="14428"/>
                  <a:pt x="10071" y="14436"/>
                </a:cubicBezTo>
                <a:cubicBezTo>
                  <a:pt x="10114" y="14643"/>
                  <a:pt x="10118" y="14849"/>
                  <a:pt x="10145" y="15056"/>
                </a:cubicBezTo>
                <a:cubicBezTo>
                  <a:pt x="10168" y="15147"/>
                  <a:pt x="10176" y="15170"/>
                  <a:pt x="10170" y="15230"/>
                </a:cubicBezTo>
              </a:path>
              <a:path w="3920" h="3895">
                <a:moveTo>
                  <a:pt x="12551" y="12601"/>
                </a:moveTo>
                <a:cubicBezTo>
                  <a:pt x="12588" y="12576"/>
                  <a:pt x="12606" y="12508"/>
                  <a:pt x="12576" y="12452"/>
                </a:cubicBezTo>
                <a:cubicBezTo>
                  <a:pt x="12516" y="12340"/>
                  <a:pt x="12329" y="12415"/>
                  <a:pt x="12254" y="12452"/>
                </a:cubicBezTo>
                <a:cubicBezTo>
                  <a:pt x="12128" y="12515"/>
                  <a:pt x="12070" y="12564"/>
                  <a:pt x="12005" y="12675"/>
                </a:cubicBezTo>
                <a:cubicBezTo>
                  <a:pt x="12132" y="12788"/>
                  <a:pt x="12264" y="12798"/>
                  <a:pt x="12427" y="12849"/>
                </a:cubicBezTo>
                <a:cubicBezTo>
                  <a:pt x="12582" y="12898"/>
                  <a:pt x="12710" y="12978"/>
                  <a:pt x="12601" y="13146"/>
                </a:cubicBezTo>
                <a:cubicBezTo>
                  <a:pt x="12509" y="13286"/>
                  <a:pt x="12351" y="13214"/>
                  <a:pt x="12328" y="13072"/>
                </a:cubicBezTo>
                <a:cubicBezTo>
                  <a:pt x="12299" y="12891"/>
                  <a:pt x="12412" y="12701"/>
                  <a:pt x="12502" y="12551"/>
                </a:cubicBezTo>
                <a:cubicBezTo>
                  <a:pt x="12525" y="12514"/>
                  <a:pt x="12545" y="12516"/>
                  <a:pt x="12502" y="12502"/>
                </a:cubicBezTo>
              </a:path>
              <a:path w="3920" h="3895">
                <a:moveTo>
                  <a:pt x="12675" y="13519"/>
                </a:moveTo>
                <a:cubicBezTo>
                  <a:pt x="12740" y="13529"/>
                  <a:pt x="12797" y="13543"/>
                  <a:pt x="12874" y="13543"/>
                </a:cubicBezTo>
                <a:cubicBezTo>
                  <a:pt x="13033" y="13543"/>
                  <a:pt x="13153" y="13527"/>
                  <a:pt x="13295" y="13444"/>
                </a:cubicBezTo>
                <a:cubicBezTo>
                  <a:pt x="13438" y="13360"/>
                  <a:pt x="13593" y="13223"/>
                  <a:pt x="13618" y="13047"/>
                </a:cubicBezTo>
                <a:cubicBezTo>
                  <a:pt x="13650" y="12815"/>
                  <a:pt x="13597" y="12538"/>
                  <a:pt x="13494" y="12328"/>
                </a:cubicBezTo>
                <a:cubicBezTo>
                  <a:pt x="13414" y="12165"/>
                  <a:pt x="13260" y="12044"/>
                  <a:pt x="13122" y="11931"/>
                </a:cubicBezTo>
                <a:cubicBezTo>
                  <a:pt x="13006" y="11836"/>
                  <a:pt x="12870" y="11768"/>
                  <a:pt x="12725" y="11733"/>
                </a:cubicBezTo>
                <a:cubicBezTo>
                  <a:pt x="12579" y="11698"/>
                  <a:pt x="12452" y="11683"/>
                  <a:pt x="12303" y="11683"/>
                </a:cubicBezTo>
                <a:cubicBezTo>
                  <a:pt x="12163" y="11683"/>
                  <a:pt x="12045" y="11762"/>
                  <a:pt x="11931" y="11832"/>
                </a:cubicBezTo>
                <a:cubicBezTo>
                  <a:pt x="11678" y="11986"/>
                  <a:pt x="11528" y="12167"/>
                  <a:pt x="11385" y="12427"/>
                </a:cubicBezTo>
                <a:cubicBezTo>
                  <a:pt x="11300" y="12582"/>
                  <a:pt x="11221" y="12720"/>
                  <a:pt x="11286" y="12898"/>
                </a:cubicBezTo>
                <a:cubicBezTo>
                  <a:pt x="11326" y="13007"/>
                  <a:pt x="11384" y="13132"/>
                  <a:pt x="11460" y="13221"/>
                </a:cubicBezTo>
                <a:cubicBezTo>
                  <a:pt x="11582" y="13365"/>
                  <a:pt x="11725" y="13494"/>
                  <a:pt x="11881" y="13593"/>
                </a:cubicBezTo>
                <a:cubicBezTo>
                  <a:pt x="11973" y="13651"/>
                  <a:pt x="12041" y="13654"/>
                  <a:pt x="12129" y="13692"/>
                </a:cubicBezTo>
                <a:cubicBezTo>
                  <a:pt x="12196" y="13721"/>
                  <a:pt x="12204" y="13737"/>
                  <a:pt x="12278" y="13742"/>
                </a:cubicBezTo>
                <a:cubicBezTo>
                  <a:pt x="12358" y="13747"/>
                  <a:pt x="12429" y="13745"/>
                  <a:pt x="12502" y="13717"/>
                </a:cubicBezTo>
                <a:cubicBezTo>
                  <a:pt x="12574" y="13689"/>
                  <a:pt x="12644" y="13637"/>
                  <a:pt x="12725" y="13618"/>
                </a:cubicBezTo>
                <a:cubicBezTo>
                  <a:pt x="12733" y="13618"/>
                  <a:pt x="12742" y="13618"/>
                  <a:pt x="12750" y="13618"/>
                </a:cubicBezTo>
              </a:path>
              <a:path w="3920" h="3895">
                <a:moveTo>
                  <a:pt x="11286" y="15528"/>
                </a:moveTo>
                <a:cubicBezTo>
                  <a:pt x="11253" y="15528"/>
                  <a:pt x="11182" y="15518"/>
                  <a:pt x="11212" y="15503"/>
                </a:cubicBezTo>
                <a:cubicBezTo>
                  <a:pt x="11255" y="15482"/>
                  <a:pt x="11338" y="15494"/>
                  <a:pt x="11385" y="15478"/>
                </a:cubicBezTo>
                <a:cubicBezTo>
                  <a:pt x="11442" y="15459"/>
                  <a:pt x="11473" y="15429"/>
                  <a:pt x="11534" y="15429"/>
                </a:cubicBezTo>
                <a:cubicBezTo>
                  <a:pt x="11576" y="15429"/>
                  <a:pt x="11572" y="15419"/>
                  <a:pt x="11584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0880" y="5446800"/>
            <a:ext cx="571320" cy="590400"/>
          </a:xfrm>
          <a:custGeom>
            <a:avLst/>
            <a:gdLst/>
            <a:ahLst/>
            <a:rect l="l" t="t" r="r" b="b"/>
            <a:pathLst>
              <a:path w="1588" h="1638">
                <a:moveTo>
                  <a:pt x="11857" y="15329"/>
                </a:moveTo>
                <a:cubicBezTo>
                  <a:pt x="11952" y="15313"/>
                  <a:pt x="12010" y="15264"/>
                  <a:pt x="12105" y="15255"/>
                </a:cubicBezTo>
                <a:cubicBezTo>
                  <a:pt x="12121" y="15255"/>
                  <a:pt x="12138" y="15255"/>
                  <a:pt x="12154" y="15255"/>
                </a:cubicBezTo>
                <a:cubicBezTo>
                  <a:pt x="12154" y="15404"/>
                  <a:pt x="12121" y="15531"/>
                  <a:pt x="12105" y="15677"/>
                </a:cubicBezTo>
                <a:cubicBezTo>
                  <a:pt x="12096" y="15760"/>
                  <a:pt x="12052" y="15828"/>
                  <a:pt x="12129" y="15701"/>
                </a:cubicBezTo>
              </a:path>
              <a:path w="1588" h="1638">
                <a:moveTo>
                  <a:pt x="12452" y="15205"/>
                </a:moveTo>
                <a:cubicBezTo>
                  <a:pt x="12504" y="15154"/>
                  <a:pt x="12523" y="15137"/>
                  <a:pt x="12576" y="15131"/>
                </a:cubicBezTo>
                <a:cubicBezTo>
                  <a:pt x="12633" y="15226"/>
                  <a:pt x="12590" y="15304"/>
                  <a:pt x="12551" y="15404"/>
                </a:cubicBezTo>
                <a:cubicBezTo>
                  <a:pt x="12517" y="15493"/>
                  <a:pt x="12490" y="15560"/>
                  <a:pt x="12477" y="15652"/>
                </a:cubicBezTo>
                <a:cubicBezTo>
                  <a:pt x="12523" y="15675"/>
                  <a:pt x="12659" y="15608"/>
                  <a:pt x="12725" y="15577"/>
                </a:cubicBezTo>
                <a:cubicBezTo>
                  <a:pt x="12751" y="15565"/>
                  <a:pt x="12789" y="15518"/>
                  <a:pt x="12750" y="15577"/>
                </a:cubicBezTo>
              </a:path>
              <a:path w="1588" h="1638">
                <a:moveTo>
                  <a:pt x="11559" y="16173"/>
                </a:moveTo>
                <a:cubicBezTo>
                  <a:pt x="11720" y="16110"/>
                  <a:pt x="11882" y="16053"/>
                  <a:pt x="12055" y="16024"/>
                </a:cubicBezTo>
                <a:cubicBezTo>
                  <a:pt x="12325" y="15979"/>
                  <a:pt x="12601" y="15927"/>
                  <a:pt x="12874" y="15900"/>
                </a:cubicBezTo>
                <a:cubicBezTo>
                  <a:pt x="12932" y="15900"/>
                  <a:pt x="12940" y="15900"/>
                  <a:pt x="12973" y="15900"/>
                </a:cubicBezTo>
              </a:path>
              <a:path w="1588" h="1638">
                <a:moveTo>
                  <a:pt x="12898" y="16222"/>
                </a:moveTo>
                <a:cubicBezTo>
                  <a:pt x="12838" y="16222"/>
                  <a:pt x="12785" y="16311"/>
                  <a:pt x="12774" y="16371"/>
                </a:cubicBezTo>
                <a:cubicBezTo>
                  <a:pt x="12758" y="16456"/>
                  <a:pt x="12704" y="16723"/>
                  <a:pt x="12824" y="16768"/>
                </a:cubicBezTo>
                <a:cubicBezTo>
                  <a:pt x="12990" y="16830"/>
                  <a:pt x="13117" y="16623"/>
                  <a:pt x="13146" y="16495"/>
                </a:cubicBezTo>
                <a:cubicBezTo>
                  <a:pt x="13170" y="16390"/>
                  <a:pt x="13091" y="16266"/>
                  <a:pt x="12973" y="16272"/>
                </a:cubicBezTo>
                <a:cubicBezTo>
                  <a:pt x="12956" y="16280"/>
                  <a:pt x="12940" y="16289"/>
                  <a:pt x="12923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45120" y="3652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793" y="10145"/>
                </a:moveTo>
                <a:lnTo>
                  <a:pt x="16793" y="1014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38200" y="6313320"/>
            <a:ext cx="180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3994" y="17537"/>
                </a:moveTo>
                <a:cubicBezTo>
                  <a:pt x="3994" y="17562"/>
                  <a:pt x="3994" y="17570"/>
                  <a:pt x="3994" y="175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y some on your own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71600" y="1143000"/>
          <a:ext cx="495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495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19320" y="2666880"/>
          <a:ext cx="68580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666880"/>
                    <a:ext cx="6858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371600" y="4419720"/>
          <a:ext cx="168912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419720"/>
                    <a:ext cx="1689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419040" y="5486400"/>
            <a:ext cx="83059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) 0 (-4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) -5 (1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) -2 (-13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) 9 (-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08200" y="990720"/>
            <a:ext cx="901800" cy="911160"/>
          </a:xfrm>
          <a:custGeom>
            <a:avLst/>
            <a:gdLst/>
            <a:ahLst/>
            <a:rect l="l" t="t" r="r" b="b"/>
            <a:pathLst>
              <a:path w="2506" h="2531">
                <a:moveTo>
                  <a:pt x="8657" y="4291"/>
                </a:moveTo>
                <a:cubicBezTo>
                  <a:pt x="8657" y="4298"/>
                  <a:pt x="8669" y="4492"/>
                  <a:pt x="8682" y="4390"/>
                </a:cubicBezTo>
                <a:cubicBezTo>
                  <a:pt x="8684" y="4371"/>
                  <a:pt x="8706" y="4322"/>
                  <a:pt x="8706" y="4366"/>
                </a:cubicBezTo>
                <a:cubicBezTo>
                  <a:pt x="8627" y="4525"/>
                  <a:pt x="8556" y="4705"/>
                  <a:pt x="8607" y="4887"/>
                </a:cubicBezTo>
                <a:cubicBezTo>
                  <a:pt x="8664" y="5092"/>
                  <a:pt x="8956" y="4939"/>
                  <a:pt x="9029" y="4837"/>
                </a:cubicBezTo>
                <a:cubicBezTo>
                  <a:pt x="9154" y="4661"/>
                  <a:pt x="9216" y="4316"/>
                  <a:pt x="8905" y="4316"/>
                </a:cubicBezTo>
                <a:cubicBezTo>
                  <a:pt x="8746" y="4362"/>
                  <a:pt x="8703" y="4372"/>
                  <a:pt x="8607" y="4415"/>
                </a:cubicBezTo>
              </a:path>
              <a:path w="2506" h="2531">
                <a:moveTo>
                  <a:pt x="8037" y="5283"/>
                </a:moveTo>
                <a:cubicBezTo>
                  <a:pt x="8082" y="4980"/>
                  <a:pt x="8127" y="4673"/>
                  <a:pt x="8111" y="4366"/>
                </a:cubicBezTo>
                <a:cubicBezTo>
                  <a:pt x="8105" y="4254"/>
                  <a:pt x="8073" y="4152"/>
                  <a:pt x="8062" y="4043"/>
                </a:cubicBezTo>
                <a:cubicBezTo>
                  <a:pt x="8336" y="4023"/>
                  <a:pt x="8607" y="3973"/>
                  <a:pt x="8880" y="3944"/>
                </a:cubicBezTo>
                <a:cubicBezTo>
                  <a:pt x="9114" y="3919"/>
                  <a:pt x="9513" y="3824"/>
                  <a:pt x="9748" y="3894"/>
                </a:cubicBezTo>
                <a:cubicBezTo>
                  <a:pt x="9748" y="3902"/>
                  <a:pt x="9748" y="3911"/>
                  <a:pt x="9748" y="3919"/>
                </a:cubicBezTo>
              </a:path>
              <a:path w="2506" h="2531">
                <a:moveTo>
                  <a:pt x="7293" y="4415"/>
                </a:moveTo>
                <a:cubicBezTo>
                  <a:pt x="7279" y="4525"/>
                  <a:pt x="7251" y="4628"/>
                  <a:pt x="7243" y="4738"/>
                </a:cubicBezTo>
                <a:cubicBezTo>
                  <a:pt x="7388" y="4738"/>
                  <a:pt x="7481" y="4714"/>
                  <a:pt x="7615" y="4663"/>
                </a:cubicBezTo>
                <a:cubicBezTo>
                  <a:pt x="7640" y="4655"/>
                  <a:pt x="7664" y="4646"/>
                  <a:pt x="7689" y="4638"/>
                </a:cubicBezTo>
              </a:path>
              <a:path w="2506" h="2531">
                <a:moveTo>
                  <a:pt x="7689" y="4217"/>
                </a:moveTo>
                <a:cubicBezTo>
                  <a:pt x="7648" y="4442"/>
                  <a:pt x="7645" y="4680"/>
                  <a:pt x="7615" y="4911"/>
                </a:cubicBezTo>
                <a:cubicBezTo>
                  <a:pt x="7600" y="5023"/>
                  <a:pt x="7590" y="5101"/>
                  <a:pt x="7590" y="5209"/>
                </a:cubicBezTo>
              </a:path>
              <a:path w="2506" h="2531">
                <a:moveTo>
                  <a:pt x="9153" y="2753"/>
                </a:moveTo>
                <a:cubicBezTo>
                  <a:pt x="9055" y="2773"/>
                  <a:pt x="8977" y="2865"/>
                  <a:pt x="8930" y="2952"/>
                </a:cubicBezTo>
                <a:cubicBezTo>
                  <a:pt x="8845" y="3108"/>
                  <a:pt x="8726" y="3419"/>
                  <a:pt x="8830" y="3597"/>
                </a:cubicBezTo>
                <a:cubicBezTo>
                  <a:pt x="8932" y="3771"/>
                  <a:pt x="9244" y="3625"/>
                  <a:pt x="9351" y="3547"/>
                </a:cubicBezTo>
                <a:cubicBezTo>
                  <a:pt x="9520" y="3423"/>
                  <a:pt x="9597" y="3176"/>
                  <a:pt x="9525" y="2977"/>
                </a:cubicBezTo>
                <a:cubicBezTo>
                  <a:pt x="9468" y="2819"/>
                  <a:pt x="9255" y="2743"/>
                  <a:pt x="9103" y="2778"/>
                </a:cubicBezTo>
                <a:cubicBezTo>
                  <a:pt x="9016" y="2822"/>
                  <a:pt x="8993" y="2829"/>
                  <a:pt x="8954" y="28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52840" y="1973160"/>
            <a:ext cx="1428480" cy="812880"/>
          </a:xfrm>
          <a:custGeom>
            <a:avLst/>
            <a:gdLst/>
            <a:ahLst/>
            <a:rect l="l" t="t" r="r" b="b"/>
            <a:pathLst>
              <a:path w="3970" h="2258">
                <a:moveTo>
                  <a:pt x="9277" y="6424"/>
                </a:moveTo>
                <a:cubicBezTo>
                  <a:pt x="9242" y="6565"/>
                  <a:pt x="9335" y="6738"/>
                  <a:pt x="9351" y="6896"/>
                </a:cubicBezTo>
                <a:cubicBezTo>
                  <a:pt x="9359" y="6976"/>
                  <a:pt x="9351" y="7063"/>
                  <a:pt x="9351" y="7144"/>
                </a:cubicBezTo>
              </a:path>
              <a:path w="3970" h="2258">
                <a:moveTo>
                  <a:pt x="9798" y="6499"/>
                </a:moveTo>
                <a:cubicBezTo>
                  <a:pt x="9846" y="6403"/>
                  <a:pt x="9893" y="6343"/>
                  <a:pt x="10021" y="6375"/>
                </a:cubicBezTo>
                <a:cubicBezTo>
                  <a:pt x="10206" y="6422"/>
                  <a:pt x="10298" y="6652"/>
                  <a:pt x="10220" y="6821"/>
                </a:cubicBezTo>
                <a:cubicBezTo>
                  <a:pt x="10119" y="7040"/>
                  <a:pt x="9900" y="7079"/>
                  <a:pt x="9699" y="7069"/>
                </a:cubicBezTo>
                <a:cubicBezTo>
                  <a:pt x="9733" y="6932"/>
                  <a:pt x="9809" y="6857"/>
                  <a:pt x="9971" y="6871"/>
                </a:cubicBezTo>
                <a:cubicBezTo>
                  <a:pt x="10117" y="6883"/>
                  <a:pt x="10206" y="6969"/>
                  <a:pt x="10294" y="7069"/>
                </a:cubicBezTo>
                <a:cubicBezTo>
                  <a:pt x="10302" y="7077"/>
                  <a:pt x="10311" y="7086"/>
                  <a:pt x="10319" y="7094"/>
                </a:cubicBezTo>
              </a:path>
              <a:path w="3970" h="2258">
                <a:moveTo>
                  <a:pt x="8458" y="6747"/>
                </a:moveTo>
                <a:cubicBezTo>
                  <a:pt x="8555" y="6747"/>
                  <a:pt x="8638" y="6702"/>
                  <a:pt x="8731" y="6672"/>
                </a:cubicBezTo>
                <a:cubicBezTo>
                  <a:pt x="8756" y="6664"/>
                  <a:pt x="8781" y="6656"/>
                  <a:pt x="8806" y="6648"/>
                </a:cubicBezTo>
              </a:path>
              <a:path w="3970" h="2258">
                <a:moveTo>
                  <a:pt x="8682" y="7317"/>
                </a:moveTo>
                <a:cubicBezTo>
                  <a:pt x="8863" y="7415"/>
                  <a:pt x="9015" y="7487"/>
                  <a:pt x="9252" y="7516"/>
                </a:cubicBezTo>
                <a:cubicBezTo>
                  <a:pt x="9661" y="7567"/>
                  <a:pt x="10073" y="7503"/>
                  <a:pt x="10468" y="7392"/>
                </a:cubicBezTo>
                <a:cubicBezTo>
                  <a:pt x="10803" y="7298"/>
                  <a:pt x="11191" y="7160"/>
                  <a:pt x="11311" y="6796"/>
                </a:cubicBezTo>
                <a:cubicBezTo>
                  <a:pt x="11425" y="6450"/>
                  <a:pt x="11174" y="6167"/>
                  <a:pt x="10939" y="5953"/>
                </a:cubicBezTo>
                <a:cubicBezTo>
                  <a:pt x="10596" y="5641"/>
                  <a:pt x="10186" y="5498"/>
                  <a:pt x="9723" y="5482"/>
                </a:cubicBezTo>
                <a:cubicBezTo>
                  <a:pt x="9095" y="5461"/>
                  <a:pt x="8498" y="5729"/>
                  <a:pt x="7987" y="6077"/>
                </a:cubicBezTo>
                <a:cubicBezTo>
                  <a:pt x="7634" y="6318"/>
                  <a:pt x="7248" y="6717"/>
                  <a:pt x="7441" y="7169"/>
                </a:cubicBezTo>
                <a:cubicBezTo>
                  <a:pt x="7619" y="7585"/>
                  <a:pt x="8305" y="7634"/>
                  <a:pt x="8682" y="7689"/>
                </a:cubicBezTo>
                <a:cubicBezTo>
                  <a:pt x="8839" y="7706"/>
                  <a:pt x="8996" y="7722"/>
                  <a:pt x="9153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13040" y="2697120"/>
            <a:ext cx="1401840" cy="446040"/>
          </a:xfrm>
          <a:custGeom>
            <a:avLst/>
            <a:gdLst/>
            <a:ahLst/>
            <a:rect l="l" t="t" r="r" b="b"/>
            <a:pathLst>
              <a:path w="3896" h="1241">
                <a:moveTo>
                  <a:pt x="9847" y="7813"/>
                </a:moveTo>
                <a:cubicBezTo>
                  <a:pt x="9812" y="7753"/>
                  <a:pt x="9802" y="7655"/>
                  <a:pt x="9723" y="7615"/>
                </a:cubicBezTo>
                <a:cubicBezTo>
                  <a:pt x="9544" y="7525"/>
                  <a:pt x="9318" y="7733"/>
                  <a:pt x="9227" y="7863"/>
                </a:cubicBezTo>
                <a:cubicBezTo>
                  <a:pt x="9166" y="7986"/>
                  <a:pt x="9132" y="8007"/>
                  <a:pt x="9178" y="8086"/>
                </a:cubicBezTo>
                <a:cubicBezTo>
                  <a:pt x="9393" y="8097"/>
                  <a:pt x="9490" y="8072"/>
                  <a:pt x="9599" y="7863"/>
                </a:cubicBezTo>
                <a:cubicBezTo>
                  <a:pt x="9599" y="7855"/>
                  <a:pt x="9599" y="7846"/>
                  <a:pt x="9599" y="7838"/>
                </a:cubicBezTo>
                <a:cubicBezTo>
                  <a:pt x="9599" y="8034"/>
                  <a:pt x="9569" y="8215"/>
                  <a:pt x="9550" y="8409"/>
                </a:cubicBezTo>
                <a:cubicBezTo>
                  <a:pt x="9550" y="8434"/>
                  <a:pt x="9550" y="8458"/>
                  <a:pt x="9550" y="8483"/>
                </a:cubicBezTo>
              </a:path>
              <a:path w="3896" h="1241">
                <a:moveTo>
                  <a:pt x="10195" y="7665"/>
                </a:moveTo>
                <a:cubicBezTo>
                  <a:pt x="10195" y="7821"/>
                  <a:pt x="10179" y="7928"/>
                  <a:pt x="10145" y="8086"/>
                </a:cubicBezTo>
                <a:cubicBezTo>
                  <a:pt x="10104" y="8274"/>
                  <a:pt x="10063" y="8397"/>
                  <a:pt x="10071" y="8582"/>
                </a:cubicBezTo>
                <a:cubicBezTo>
                  <a:pt x="10272" y="8669"/>
                  <a:pt x="10433" y="8603"/>
                  <a:pt x="10592" y="8434"/>
                </a:cubicBezTo>
                <a:cubicBezTo>
                  <a:pt x="10676" y="8307"/>
                  <a:pt x="10709" y="8284"/>
                  <a:pt x="10691" y="8186"/>
                </a:cubicBezTo>
                <a:cubicBezTo>
                  <a:pt x="10487" y="8229"/>
                  <a:pt x="10372" y="8344"/>
                  <a:pt x="10319" y="8558"/>
                </a:cubicBezTo>
                <a:cubicBezTo>
                  <a:pt x="10319" y="8636"/>
                  <a:pt x="10304" y="8654"/>
                  <a:pt x="10344" y="8682"/>
                </a:cubicBezTo>
              </a:path>
              <a:path w="3896" h="1241">
                <a:moveTo>
                  <a:pt x="8855" y="8731"/>
                </a:moveTo>
                <a:cubicBezTo>
                  <a:pt x="8882" y="8573"/>
                  <a:pt x="8874" y="8450"/>
                  <a:pt x="8855" y="8285"/>
                </a:cubicBezTo>
                <a:cubicBezTo>
                  <a:pt x="8828" y="8053"/>
                  <a:pt x="8742" y="7840"/>
                  <a:pt x="8706" y="7615"/>
                </a:cubicBezTo>
                <a:cubicBezTo>
                  <a:pt x="8706" y="7598"/>
                  <a:pt x="8706" y="7582"/>
                  <a:pt x="8706" y="7565"/>
                </a:cubicBezTo>
                <a:cubicBezTo>
                  <a:pt x="8792" y="7558"/>
                  <a:pt x="8867" y="7543"/>
                  <a:pt x="8954" y="7541"/>
                </a:cubicBezTo>
                <a:cubicBezTo>
                  <a:pt x="9516" y="7530"/>
                  <a:pt x="10079" y="7519"/>
                  <a:pt x="10641" y="7516"/>
                </a:cubicBezTo>
                <a:cubicBezTo>
                  <a:pt x="10854" y="7515"/>
                  <a:pt x="11493" y="7398"/>
                  <a:pt x="11708" y="7516"/>
                </a:cubicBezTo>
                <a:cubicBezTo>
                  <a:pt x="11675" y="7549"/>
                  <a:pt x="11658" y="7566"/>
                  <a:pt x="11633" y="7590"/>
                </a:cubicBezTo>
              </a:path>
              <a:path w="3896" h="1241">
                <a:moveTo>
                  <a:pt x="8409" y="7739"/>
                </a:moveTo>
                <a:cubicBezTo>
                  <a:pt x="8246" y="7739"/>
                  <a:pt x="8079" y="7770"/>
                  <a:pt x="7938" y="7863"/>
                </a:cubicBezTo>
                <a:cubicBezTo>
                  <a:pt x="7858" y="7942"/>
                  <a:pt x="7837" y="7950"/>
                  <a:pt x="7813" y="8012"/>
                </a:cubicBezTo>
                <a:cubicBezTo>
                  <a:pt x="7902" y="8085"/>
                  <a:pt x="8253" y="8238"/>
                  <a:pt x="8260" y="8359"/>
                </a:cubicBezTo>
                <a:cubicBezTo>
                  <a:pt x="8271" y="8547"/>
                  <a:pt x="7969" y="8500"/>
                  <a:pt x="7863" y="8508"/>
                </a:cubicBezTo>
                <a:cubicBezTo>
                  <a:pt x="7909" y="8219"/>
                  <a:pt x="8075" y="8105"/>
                  <a:pt x="8260" y="7888"/>
                </a:cubicBezTo>
                <a:cubicBezTo>
                  <a:pt x="8277" y="7863"/>
                  <a:pt x="8293" y="7838"/>
                  <a:pt x="8310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95840" y="3419640"/>
            <a:ext cx="1527120" cy="1250640"/>
          </a:xfrm>
          <a:custGeom>
            <a:avLst/>
            <a:gdLst/>
            <a:ahLst/>
            <a:rect l="l" t="t" r="r" b="b"/>
            <a:pathLst>
              <a:path w="4243" h="3474">
                <a:moveTo>
                  <a:pt x="12378" y="11881"/>
                </a:moveTo>
                <a:cubicBezTo>
                  <a:pt x="12426" y="12029"/>
                  <a:pt x="12472" y="12138"/>
                  <a:pt x="12502" y="12303"/>
                </a:cubicBezTo>
                <a:cubicBezTo>
                  <a:pt x="12523" y="12412"/>
                  <a:pt x="12526" y="12438"/>
                  <a:pt x="12551" y="12502"/>
                </a:cubicBezTo>
              </a:path>
              <a:path w="4243" h="3474">
                <a:moveTo>
                  <a:pt x="12799" y="11683"/>
                </a:moveTo>
                <a:cubicBezTo>
                  <a:pt x="13050" y="11664"/>
                  <a:pt x="13330" y="11653"/>
                  <a:pt x="13419" y="11956"/>
                </a:cubicBezTo>
                <a:cubicBezTo>
                  <a:pt x="13500" y="12232"/>
                  <a:pt x="13247" y="12340"/>
                  <a:pt x="13047" y="12378"/>
                </a:cubicBezTo>
                <a:cubicBezTo>
                  <a:pt x="12991" y="12185"/>
                  <a:pt x="13026" y="12022"/>
                  <a:pt x="13295" y="12080"/>
                </a:cubicBezTo>
                <a:cubicBezTo>
                  <a:pt x="13439" y="12111"/>
                  <a:pt x="13510" y="12295"/>
                  <a:pt x="13593" y="12229"/>
                </a:cubicBezTo>
              </a:path>
              <a:path w="4243" h="3474">
                <a:moveTo>
                  <a:pt x="13816" y="11485"/>
                </a:moveTo>
                <a:cubicBezTo>
                  <a:pt x="13901" y="11717"/>
                  <a:pt x="14035" y="11975"/>
                  <a:pt x="14015" y="12229"/>
                </a:cubicBezTo>
                <a:cubicBezTo>
                  <a:pt x="14007" y="12254"/>
                  <a:pt x="13998" y="12278"/>
                  <a:pt x="13990" y="12303"/>
                </a:cubicBezTo>
              </a:path>
              <a:path w="4243" h="3474">
                <a:moveTo>
                  <a:pt x="12353" y="12898"/>
                </a:moveTo>
                <a:cubicBezTo>
                  <a:pt x="12261" y="12708"/>
                  <a:pt x="12175" y="12517"/>
                  <a:pt x="12080" y="12328"/>
                </a:cubicBezTo>
                <a:cubicBezTo>
                  <a:pt x="11973" y="12116"/>
                  <a:pt x="11820" y="11937"/>
                  <a:pt x="11708" y="11733"/>
                </a:cubicBezTo>
                <a:cubicBezTo>
                  <a:pt x="11669" y="11662"/>
                  <a:pt x="11700" y="11663"/>
                  <a:pt x="11683" y="11609"/>
                </a:cubicBezTo>
                <a:cubicBezTo>
                  <a:pt x="11777" y="11571"/>
                  <a:pt x="11852" y="11548"/>
                  <a:pt x="11956" y="11534"/>
                </a:cubicBezTo>
                <a:cubicBezTo>
                  <a:pt x="12448" y="11468"/>
                  <a:pt x="12932" y="11336"/>
                  <a:pt x="13419" y="11237"/>
                </a:cubicBezTo>
                <a:cubicBezTo>
                  <a:pt x="13517" y="11217"/>
                  <a:pt x="14706" y="10897"/>
                  <a:pt x="14784" y="11038"/>
                </a:cubicBezTo>
                <a:cubicBezTo>
                  <a:pt x="14743" y="11055"/>
                  <a:pt x="14701" y="11071"/>
                  <a:pt x="14660" y="11088"/>
                </a:cubicBezTo>
              </a:path>
              <a:path w="4243" h="3474">
                <a:moveTo>
                  <a:pt x="10542" y="11956"/>
                </a:moveTo>
                <a:cubicBezTo>
                  <a:pt x="10566" y="12173"/>
                  <a:pt x="10589" y="12382"/>
                  <a:pt x="10592" y="12601"/>
                </a:cubicBezTo>
                <a:cubicBezTo>
                  <a:pt x="10593" y="12644"/>
                  <a:pt x="10513" y="13135"/>
                  <a:pt x="10592" y="12874"/>
                </a:cubicBezTo>
              </a:path>
              <a:path w="4243" h="3474">
                <a:moveTo>
                  <a:pt x="10914" y="11981"/>
                </a:moveTo>
                <a:cubicBezTo>
                  <a:pt x="10999" y="12192"/>
                  <a:pt x="11068" y="12420"/>
                  <a:pt x="11088" y="12650"/>
                </a:cubicBezTo>
                <a:cubicBezTo>
                  <a:pt x="11088" y="12766"/>
                  <a:pt x="11088" y="12783"/>
                  <a:pt x="11088" y="12849"/>
                </a:cubicBezTo>
              </a:path>
              <a:path w="4243" h="3474">
                <a:moveTo>
                  <a:pt x="12700" y="10542"/>
                </a:moveTo>
                <a:cubicBezTo>
                  <a:pt x="12700" y="10525"/>
                  <a:pt x="12700" y="10509"/>
                  <a:pt x="12700" y="10492"/>
                </a:cubicBezTo>
                <a:cubicBezTo>
                  <a:pt x="12833" y="10492"/>
                  <a:pt x="12856" y="10725"/>
                  <a:pt x="12874" y="10815"/>
                </a:cubicBezTo>
                <a:cubicBezTo>
                  <a:pt x="12906" y="10972"/>
                  <a:pt x="12898" y="11128"/>
                  <a:pt x="12898" y="11286"/>
                </a:cubicBezTo>
              </a:path>
              <a:path w="4243" h="3474">
                <a:moveTo>
                  <a:pt x="13345" y="10195"/>
                </a:moveTo>
                <a:cubicBezTo>
                  <a:pt x="13383" y="10409"/>
                  <a:pt x="13389" y="10627"/>
                  <a:pt x="13419" y="10840"/>
                </a:cubicBezTo>
                <a:cubicBezTo>
                  <a:pt x="13438" y="10914"/>
                  <a:pt x="13446" y="10921"/>
                  <a:pt x="13444" y="10964"/>
                </a:cubicBezTo>
              </a:path>
              <a:path w="4243" h="3474">
                <a:moveTo>
                  <a:pt x="11981" y="11013"/>
                </a:moveTo>
                <a:cubicBezTo>
                  <a:pt x="11989" y="11021"/>
                  <a:pt x="11997" y="11030"/>
                  <a:pt x="12005" y="11038"/>
                </a:cubicBezTo>
                <a:cubicBezTo>
                  <a:pt x="12067" y="11007"/>
                  <a:pt x="12153" y="10993"/>
                  <a:pt x="12229" y="10988"/>
                </a:cubicBezTo>
                <a:cubicBezTo>
                  <a:pt x="12237" y="10988"/>
                  <a:pt x="12246" y="10988"/>
                  <a:pt x="12254" y="10988"/>
                </a:cubicBezTo>
              </a:path>
              <a:path w="4243" h="3474">
                <a:moveTo>
                  <a:pt x="11981" y="11385"/>
                </a:moveTo>
                <a:cubicBezTo>
                  <a:pt x="12032" y="11415"/>
                  <a:pt x="12140" y="11497"/>
                  <a:pt x="12204" y="11509"/>
                </a:cubicBezTo>
                <a:cubicBezTo>
                  <a:pt x="12358" y="11538"/>
                  <a:pt x="12600" y="11513"/>
                  <a:pt x="12750" y="11485"/>
                </a:cubicBezTo>
                <a:cubicBezTo>
                  <a:pt x="13001" y="11438"/>
                  <a:pt x="13235" y="11337"/>
                  <a:pt x="13469" y="11237"/>
                </a:cubicBezTo>
                <a:cubicBezTo>
                  <a:pt x="13681" y="11146"/>
                  <a:pt x="13908" y="11036"/>
                  <a:pt x="14089" y="10889"/>
                </a:cubicBezTo>
                <a:cubicBezTo>
                  <a:pt x="14234" y="10771"/>
                  <a:pt x="14356" y="10624"/>
                  <a:pt x="14412" y="10443"/>
                </a:cubicBezTo>
                <a:cubicBezTo>
                  <a:pt x="14472" y="10247"/>
                  <a:pt x="14442" y="10065"/>
                  <a:pt x="14337" y="9897"/>
                </a:cubicBezTo>
                <a:cubicBezTo>
                  <a:pt x="14220" y="9710"/>
                  <a:pt x="14044" y="9622"/>
                  <a:pt x="13841" y="9550"/>
                </a:cubicBezTo>
                <a:cubicBezTo>
                  <a:pt x="13606" y="9467"/>
                  <a:pt x="13316" y="9482"/>
                  <a:pt x="13072" y="9525"/>
                </a:cubicBezTo>
                <a:cubicBezTo>
                  <a:pt x="12657" y="9599"/>
                  <a:pt x="12294" y="9808"/>
                  <a:pt x="11956" y="10046"/>
                </a:cubicBezTo>
                <a:cubicBezTo>
                  <a:pt x="11764" y="10182"/>
                  <a:pt x="11586" y="10314"/>
                  <a:pt x="11460" y="10517"/>
                </a:cubicBezTo>
                <a:cubicBezTo>
                  <a:pt x="11352" y="10691"/>
                  <a:pt x="11376" y="10901"/>
                  <a:pt x="11435" y="11088"/>
                </a:cubicBezTo>
                <a:cubicBezTo>
                  <a:pt x="11479" y="11228"/>
                  <a:pt x="11515" y="11397"/>
                  <a:pt x="11683" y="11435"/>
                </a:cubicBezTo>
                <a:cubicBezTo>
                  <a:pt x="11847" y="11472"/>
                  <a:pt x="12014" y="11406"/>
                  <a:pt x="12179" y="11435"/>
                </a:cubicBezTo>
                <a:cubicBezTo>
                  <a:pt x="12306" y="11457"/>
                  <a:pt x="12276" y="11475"/>
                  <a:pt x="12353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07000" y="4902120"/>
            <a:ext cx="1411200" cy="876240"/>
          </a:xfrm>
          <a:custGeom>
            <a:avLst/>
            <a:gdLst/>
            <a:ahLst/>
            <a:rect l="l" t="t" r="r" b="b"/>
            <a:pathLst>
              <a:path w="3920" h="2432">
                <a:moveTo>
                  <a:pt x="17462" y="15007"/>
                </a:moveTo>
                <a:cubicBezTo>
                  <a:pt x="17470" y="14990"/>
                  <a:pt x="17479" y="14974"/>
                  <a:pt x="17487" y="14957"/>
                </a:cubicBezTo>
                <a:cubicBezTo>
                  <a:pt x="17634" y="14957"/>
                  <a:pt x="17470" y="15244"/>
                  <a:pt x="17438" y="15354"/>
                </a:cubicBezTo>
                <a:cubicBezTo>
                  <a:pt x="17406" y="15463"/>
                  <a:pt x="17269" y="15795"/>
                  <a:pt x="17462" y="15850"/>
                </a:cubicBezTo>
                <a:cubicBezTo>
                  <a:pt x="17667" y="15908"/>
                  <a:pt x="17810" y="15725"/>
                  <a:pt x="17859" y="15553"/>
                </a:cubicBezTo>
                <a:cubicBezTo>
                  <a:pt x="17859" y="15485"/>
                  <a:pt x="17862" y="15466"/>
                  <a:pt x="17835" y="15429"/>
                </a:cubicBezTo>
                <a:cubicBezTo>
                  <a:pt x="17695" y="15512"/>
                  <a:pt x="17579" y="15609"/>
                  <a:pt x="17537" y="15776"/>
                </a:cubicBezTo>
                <a:cubicBezTo>
                  <a:pt x="17537" y="15861"/>
                  <a:pt x="17524" y="15887"/>
                  <a:pt x="17587" y="15900"/>
                </a:cubicBezTo>
              </a:path>
              <a:path w="3920" h="2432">
                <a:moveTo>
                  <a:pt x="18281" y="14883"/>
                </a:moveTo>
                <a:cubicBezTo>
                  <a:pt x="18144" y="15088"/>
                  <a:pt x="18047" y="15305"/>
                  <a:pt x="18008" y="15553"/>
                </a:cubicBezTo>
                <a:cubicBezTo>
                  <a:pt x="18008" y="15594"/>
                  <a:pt x="18008" y="15636"/>
                  <a:pt x="18008" y="15677"/>
                </a:cubicBezTo>
                <a:cubicBezTo>
                  <a:pt x="18224" y="15779"/>
                  <a:pt x="18495" y="15775"/>
                  <a:pt x="18653" y="15528"/>
                </a:cubicBezTo>
                <a:cubicBezTo>
                  <a:pt x="18810" y="15283"/>
                  <a:pt x="18629" y="14944"/>
                  <a:pt x="18355" y="14908"/>
                </a:cubicBezTo>
                <a:cubicBezTo>
                  <a:pt x="18306" y="14916"/>
                  <a:pt x="18256" y="14924"/>
                  <a:pt x="18207" y="14932"/>
                </a:cubicBezTo>
              </a:path>
              <a:path w="3920" h="2432">
                <a:moveTo>
                  <a:pt x="16694" y="15304"/>
                </a:moveTo>
                <a:cubicBezTo>
                  <a:pt x="16801" y="15304"/>
                  <a:pt x="16915" y="15264"/>
                  <a:pt x="17016" y="15230"/>
                </a:cubicBezTo>
                <a:cubicBezTo>
                  <a:pt x="17057" y="15210"/>
                  <a:pt x="17073" y="15191"/>
                  <a:pt x="17066" y="15230"/>
                </a:cubicBezTo>
              </a:path>
              <a:path w="3920" h="2432">
                <a:moveTo>
                  <a:pt x="15900" y="15825"/>
                </a:moveTo>
                <a:cubicBezTo>
                  <a:pt x="16114" y="15838"/>
                  <a:pt x="16304" y="15876"/>
                  <a:pt x="16520" y="15900"/>
                </a:cubicBezTo>
                <a:cubicBezTo>
                  <a:pt x="16941" y="15947"/>
                  <a:pt x="17393" y="15895"/>
                  <a:pt x="17810" y="15825"/>
                </a:cubicBezTo>
                <a:cubicBezTo>
                  <a:pt x="18289" y="15745"/>
                  <a:pt x="18775" y="15605"/>
                  <a:pt x="19149" y="15280"/>
                </a:cubicBezTo>
                <a:cubicBezTo>
                  <a:pt x="19431" y="15035"/>
                  <a:pt x="19604" y="14647"/>
                  <a:pt x="19422" y="14288"/>
                </a:cubicBezTo>
                <a:cubicBezTo>
                  <a:pt x="19209" y="13866"/>
                  <a:pt x="18687" y="13703"/>
                  <a:pt x="18256" y="13643"/>
                </a:cubicBezTo>
                <a:cubicBezTo>
                  <a:pt x="17611" y="13554"/>
                  <a:pt x="16866" y="13626"/>
                  <a:pt x="16321" y="14015"/>
                </a:cubicBezTo>
                <a:cubicBezTo>
                  <a:pt x="15867" y="14339"/>
                  <a:pt x="15497" y="14930"/>
                  <a:pt x="15577" y="15503"/>
                </a:cubicBezTo>
                <a:cubicBezTo>
                  <a:pt x="15646" y="15997"/>
                  <a:pt x="16176" y="16066"/>
                  <a:pt x="16570" y="16049"/>
                </a:cubicBezTo>
                <a:cubicBezTo>
                  <a:pt x="16702" y="16032"/>
                  <a:pt x="16834" y="16016"/>
                  <a:pt x="16966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5892840"/>
            <a:ext cx="1152720" cy="893880"/>
          </a:xfrm>
          <a:custGeom>
            <a:avLst/>
            <a:gdLst/>
            <a:ahLst/>
            <a:rect l="l" t="t" r="r" b="b"/>
            <a:pathLst>
              <a:path w="3201" h="2482">
                <a:moveTo>
                  <a:pt x="17239" y="17388"/>
                </a:moveTo>
                <a:cubicBezTo>
                  <a:pt x="17239" y="17352"/>
                  <a:pt x="17201" y="17426"/>
                  <a:pt x="17165" y="17462"/>
                </a:cubicBezTo>
                <a:cubicBezTo>
                  <a:pt x="17186" y="17359"/>
                  <a:pt x="17231" y="17271"/>
                  <a:pt x="17363" y="17314"/>
                </a:cubicBezTo>
                <a:cubicBezTo>
                  <a:pt x="17641" y="17404"/>
                  <a:pt x="17446" y="17787"/>
                  <a:pt x="17363" y="17934"/>
                </a:cubicBezTo>
                <a:cubicBezTo>
                  <a:pt x="17312" y="18023"/>
                  <a:pt x="17122" y="18343"/>
                  <a:pt x="17041" y="18182"/>
                </a:cubicBezTo>
                <a:cubicBezTo>
                  <a:pt x="17062" y="18004"/>
                  <a:pt x="17108" y="17824"/>
                  <a:pt x="17338" y="17859"/>
                </a:cubicBezTo>
                <a:cubicBezTo>
                  <a:pt x="17419" y="17871"/>
                  <a:pt x="17495" y="18018"/>
                  <a:pt x="17512" y="17983"/>
                </a:cubicBezTo>
              </a:path>
              <a:path w="3201" h="2482">
                <a:moveTo>
                  <a:pt x="17636" y="17363"/>
                </a:moveTo>
                <a:cubicBezTo>
                  <a:pt x="17636" y="17396"/>
                  <a:pt x="17636" y="17446"/>
                  <a:pt x="17636" y="17413"/>
                </a:cubicBezTo>
                <a:cubicBezTo>
                  <a:pt x="17603" y="17297"/>
                  <a:pt x="17677" y="17166"/>
                  <a:pt x="17760" y="17066"/>
                </a:cubicBezTo>
                <a:cubicBezTo>
                  <a:pt x="17890" y="16909"/>
                  <a:pt x="18023" y="16905"/>
                  <a:pt x="18058" y="17140"/>
                </a:cubicBezTo>
                <a:cubicBezTo>
                  <a:pt x="18085" y="17321"/>
                  <a:pt x="18083" y="17526"/>
                  <a:pt x="18083" y="17711"/>
                </a:cubicBezTo>
                <a:cubicBezTo>
                  <a:pt x="18083" y="17719"/>
                  <a:pt x="18083" y="17727"/>
                  <a:pt x="18083" y="17735"/>
                </a:cubicBezTo>
              </a:path>
              <a:path w="3201" h="2482">
                <a:moveTo>
                  <a:pt x="16446" y="17909"/>
                </a:moveTo>
                <a:cubicBezTo>
                  <a:pt x="16479" y="17850"/>
                  <a:pt x="16514" y="17775"/>
                  <a:pt x="16594" y="17785"/>
                </a:cubicBezTo>
                <a:cubicBezTo>
                  <a:pt x="16619" y="17793"/>
                  <a:pt x="16644" y="17802"/>
                  <a:pt x="16669" y="17810"/>
                </a:cubicBezTo>
              </a:path>
              <a:path w="3201" h="2482">
                <a:moveTo>
                  <a:pt x="16619" y="18504"/>
                </a:moveTo>
                <a:cubicBezTo>
                  <a:pt x="16797" y="18564"/>
                  <a:pt x="16918" y="18593"/>
                  <a:pt x="17115" y="18579"/>
                </a:cubicBezTo>
                <a:cubicBezTo>
                  <a:pt x="17489" y="18553"/>
                  <a:pt x="17856" y="18377"/>
                  <a:pt x="18157" y="18157"/>
                </a:cubicBezTo>
                <a:cubicBezTo>
                  <a:pt x="18558" y="17864"/>
                  <a:pt x="18978" y="17494"/>
                  <a:pt x="19100" y="16991"/>
                </a:cubicBezTo>
                <a:cubicBezTo>
                  <a:pt x="19207" y="16551"/>
                  <a:pt x="18852" y="16438"/>
                  <a:pt x="18504" y="16396"/>
                </a:cubicBezTo>
                <a:cubicBezTo>
                  <a:pt x="17863" y="16318"/>
                  <a:pt x="17200" y="16496"/>
                  <a:pt x="16644" y="16818"/>
                </a:cubicBezTo>
                <a:cubicBezTo>
                  <a:pt x="16127" y="17117"/>
                  <a:pt x="15822" y="17573"/>
                  <a:pt x="15900" y="18182"/>
                </a:cubicBezTo>
                <a:cubicBezTo>
                  <a:pt x="15952" y="18591"/>
                  <a:pt x="16192" y="18841"/>
                  <a:pt x="16594" y="18852"/>
                </a:cubicBezTo>
                <a:cubicBezTo>
                  <a:pt x="17035" y="18865"/>
                  <a:pt x="17487" y="18664"/>
                  <a:pt x="17909" y="185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5500800"/>
            <a:ext cx="196560" cy="285480"/>
          </a:xfrm>
          <a:custGeom>
            <a:avLst/>
            <a:gdLst/>
            <a:ahLst/>
            <a:rect l="l" t="t" r="r" b="b"/>
            <a:pathLst>
              <a:path w="546" h="794">
                <a:moveTo>
                  <a:pt x="6672" y="15329"/>
                </a:moveTo>
                <a:cubicBezTo>
                  <a:pt x="6672" y="15251"/>
                  <a:pt x="6640" y="15269"/>
                  <a:pt x="6598" y="15354"/>
                </a:cubicBezTo>
                <a:cubicBezTo>
                  <a:pt x="6512" y="15526"/>
                  <a:pt x="6355" y="15803"/>
                  <a:pt x="6424" y="15999"/>
                </a:cubicBezTo>
                <a:cubicBezTo>
                  <a:pt x="6494" y="16196"/>
                  <a:pt x="6807" y="15981"/>
                  <a:pt x="6871" y="15900"/>
                </a:cubicBezTo>
                <a:cubicBezTo>
                  <a:pt x="7000" y="15739"/>
                  <a:pt x="6987" y="15441"/>
                  <a:pt x="6772" y="15354"/>
                </a:cubicBezTo>
                <a:cubicBezTo>
                  <a:pt x="6647" y="15354"/>
                  <a:pt x="6605" y="15354"/>
                  <a:pt x="6524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30280" y="5973840"/>
            <a:ext cx="1036800" cy="741240"/>
          </a:xfrm>
          <a:custGeom>
            <a:avLst/>
            <a:gdLst/>
            <a:ahLst/>
            <a:rect l="l" t="t" r="r" b="b"/>
            <a:pathLst>
              <a:path w="2878" h="2060">
                <a:moveTo>
                  <a:pt x="7317" y="17363"/>
                </a:moveTo>
                <a:cubicBezTo>
                  <a:pt x="7290" y="17306"/>
                  <a:pt x="7232" y="17443"/>
                  <a:pt x="7193" y="17462"/>
                </a:cubicBezTo>
                <a:cubicBezTo>
                  <a:pt x="7177" y="17462"/>
                  <a:pt x="7160" y="17462"/>
                  <a:pt x="7144" y="17462"/>
                </a:cubicBezTo>
                <a:cubicBezTo>
                  <a:pt x="7159" y="17372"/>
                  <a:pt x="7206" y="17275"/>
                  <a:pt x="7317" y="17264"/>
                </a:cubicBezTo>
                <a:cubicBezTo>
                  <a:pt x="7578" y="17237"/>
                  <a:pt x="7350" y="17683"/>
                  <a:pt x="7317" y="17735"/>
                </a:cubicBezTo>
                <a:cubicBezTo>
                  <a:pt x="7232" y="17869"/>
                  <a:pt x="7153" y="17922"/>
                  <a:pt x="7020" y="17983"/>
                </a:cubicBezTo>
                <a:cubicBezTo>
                  <a:pt x="6952" y="17917"/>
                  <a:pt x="7000" y="17824"/>
                  <a:pt x="7094" y="17785"/>
                </a:cubicBezTo>
                <a:cubicBezTo>
                  <a:pt x="7210" y="17737"/>
                  <a:pt x="7370" y="17758"/>
                  <a:pt x="7466" y="17835"/>
                </a:cubicBezTo>
                <a:cubicBezTo>
                  <a:pt x="7496" y="17864"/>
                  <a:pt x="7507" y="17866"/>
                  <a:pt x="7516" y="17810"/>
                </a:cubicBezTo>
              </a:path>
              <a:path w="2878" h="2060">
                <a:moveTo>
                  <a:pt x="7863" y="17090"/>
                </a:moveTo>
                <a:cubicBezTo>
                  <a:pt x="7839" y="17212"/>
                  <a:pt x="7798" y="17332"/>
                  <a:pt x="7789" y="17462"/>
                </a:cubicBezTo>
                <a:cubicBezTo>
                  <a:pt x="7777" y="17630"/>
                  <a:pt x="7795" y="17664"/>
                  <a:pt x="7888" y="17785"/>
                </a:cubicBezTo>
                <a:cubicBezTo>
                  <a:pt x="8040" y="17757"/>
                  <a:pt x="8211" y="17676"/>
                  <a:pt x="8235" y="17487"/>
                </a:cubicBezTo>
                <a:cubicBezTo>
                  <a:pt x="8227" y="17454"/>
                  <a:pt x="8218" y="17421"/>
                  <a:pt x="8210" y="17388"/>
                </a:cubicBezTo>
                <a:cubicBezTo>
                  <a:pt x="8066" y="17431"/>
                  <a:pt x="7988" y="17528"/>
                  <a:pt x="7962" y="17686"/>
                </a:cubicBezTo>
                <a:cubicBezTo>
                  <a:pt x="7962" y="17719"/>
                  <a:pt x="7962" y="17752"/>
                  <a:pt x="7962" y="17785"/>
                </a:cubicBezTo>
              </a:path>
              <a:path w="2878" h="2060">
                <a:moveTo>
                  <a:pt x="7144" y="18554"/>
                </a:moveTo>
                <a:cubicBezTo>
                  <a:pt x="7511" y="18474"/>
                  <a:pt x="7883" y="18390"/>
                  <a:pt x="8235" y="18256"/>
                </a:cubicBezTo>
                <a:cubicBezTo>
                  <a:pt x="8581" y="18125"/>
                  <a:pt x="8955" y="17913"/>
                  <a:pt x="9178" y="17611"/>
                </a:cubicBezTo>
                <a:cubicBezTo>
                  <a:pt x="9370" y="17350"/>
                  <a:pt x="9452" y="16985"/>
                  <a:pt x="9128" y="16793"/>
                </a:cubicBezTo>
                <a:cubicBezTo>
                  <a:pt x="8661" y="16517"/>
                  <a:pt x="8066" y="16575"/>
                  <a:pt x="7565" y="16694"/>
                </a:cubicBezTo>
                <a:cubicBezTo>
                  <a:pt x="7046" y="16817"/>
                  <a:pt x="6674" y="17083"/>
                  <a:pt x="6524" y="17611"/>
                </a:cubicBezTo>
                <a:cubicBezTo>
                  <a:pt x="6444" y="17894"/>
                  <a:pt x="6385" y="18495"/>
                  <a:pt x="6747" y="18628"/>
                </a:cubicBezTo>
                <a:cubicBezTo>
                  <a:pt x="7199" y="18794"/>
                  <a:pt x="7853" y="18416"/>
                  <a:pt x="8260" y="18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it Ti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20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 1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÷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)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 x 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)  -72 ÷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9 x -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1676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rse 1:  Workbook pg. 151 1-12 even 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153   10 -18 even 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rse 2:  Textbook pgs. 209   29-36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14 problems 28-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ccps</cp:lastModifiedBy>
  <dcterms:modified xsi:type="dcterms:W3CDTF">2010-04-20T18:31:36Z</dcterms:modified>
  <cp:revision>15</cp:revision>
  <dc:subject/>
  <dc:title>Unit 12: Integers </dc:title>
</cp:coreProperties>
</file>